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D848-DF65-44E6-A177-A99097298A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6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urpose behind this seminar is twofol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show how to analyze a multiple-heat-source transient thermal system by applying the principles of linear superposition; and how to solve these problems using tool available to most Electrical or Product engine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’ll cover the relevant topics in a systematic way, as indicated in this outli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5568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58520"/>
            <a:ext cx="914400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5568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54764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55680"/>
            <a:ext cx="255168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758520"/>
            <a:ext cx="914400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5568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47640"/>
            <a:ext cx="386712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55680"/>
            <a:ext cx="7925040" cy="21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18240" y="6608880"/>
            <a:ext cx="3274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ON Semiconductor, Corporate R&amp;D • July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000" y="6597720"/>
            <a:ext cx="48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C32-5D1E-444D-99AC-6832ED8127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1200" y="6523200"/>
            <a:ext cx="615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SING LINEAR SUPERPOSITION TO SOLVE MULTIPLE HEAT SOURCETRANSIENT THERMAL PROBLEMS 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(RPS &amp; DT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8960" y="6315120"/>
            <a:ext cx="830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Pack 2007, Vancouver Canada,  ASME-JSME Thermal Engineering and Heat Transfer Confer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735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6616800"/>
            <a:ext cx="1828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out &amp; Billings• July 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8960" y="6315120"/>
            <a:ext cx="830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Pack 2007, Vancouver Canada,  ASME-JSME Thermal Engineering and Heat Transfer Confer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oger.stout@onsemi.com" TargetMode="External"/><Relationship Id="rId3" Type="http://schemas.openxmlformats.org/officeDocument/2006/relationships/hyperlink" Target="mailto:david.billings@onsemi.co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36720" y="1635120"/>
            <a:ext cx="1494000" cy="15177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6800" y="1785960"/>
            <a:ext cx="1303200" cy="136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1960" y="1847880"/>
            <a:ext cx="1166760" cy="115740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7760" y="2997360"/>
            <a:ext cx="7213680" cy="172080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USING LINEAR SUPERPOSITION TO SOLVE MULTIPLE HEAT SOURCE</a:t>
            </a:r>
            <a:br>
              <a:rPr sz="2800"/>
            </a:b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RANSIENT THERMAL PROBLEMS</a:t>
            </a:r>
            <a:endParaRPr b="0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78040" y="5046840"/>
            <a:ext cx="364968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ger Stout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ior Research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oger.stout@onsem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3400" y="5046840"/>
            <a:ext cx="38653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Billings,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Research Scient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david.billings@onsemi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sen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4120" y="1649160"/>
            <a:ext cx="252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InterPACK '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486480" y="1787400"/>
            <a:ext cx="1295280" cy="787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108160" y="1941480"/>
            <a:ext cx="965160" cy="959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8000" y="2011320"/>
            <a:ext cx="824040" cy="7873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106720"/>
            <a:ext cx="636840" cy="61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8440" y="2197080"/>
            <a:ext cx="447840" cy="428760"/>
          </a:xfrm>
          <a:prstGeom prst="ellipse">
            <a:avLst/>
          </a:prstGeom>
          <a:gradFill rotWithShape="0">
            <a:gsLst>
              <a:gs pos="0">
                <a:srgbClr val="f303c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55800" y="2438280"/>
            <a:ext cx="1493640" cy="814320"/>
            <a:chOff x="1855800" y="2438280"/>
            <a:chExt cx="1493640" cy="814320"/>
          </a:xfrm>
        </p:grpSpPr>
        <p:sp>
          <p:nvSpPr>
            <p:cNvPr id="102" name=""/>
            <p:cNvSpPr/>
            <p:nvPr/>
          </p:nvSpPr>
          <p:spPr>
            <a:xfrm>
              <a:off x="1855800" y="2789640"/>
              <a:ext cx="1493640" cy="46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004840" y="2438280"/>
              <a:ext cx="1162080" cy="345600"/>
              <a:chOff x="2004840" y="2438280"/>
              <a:chExt cx="1162080" cy="345600"/>
            </a:xfrm>
          </p:grpSpPr>
          <p:sp>
            <p:nvSpPr>
              <p:cNvPr id="104" name=""/>
              <p:cNvSpPr/>
              <p:nvPr/>
            </p:nvSpPr>
            <p:spPr>
              <a:xfrm>
                <a:off x="2004840" y="2438280"/>
                <a:ext cx="1162080" cy="345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3b3b3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2165040" y="2438280"/>
                <a:ext cx="871560" cy="332640"/>
                <a:chOff x="2165040" y="2438280"/>
                <a:chExt cx="871560" cy="33264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2165040" y="2438280"/>
                  <a:ext cx="871560" cy="320400"/>
                  <a:chOff x="2165040" y="2438280"/>
                  <a:chExt cx="871560" cy="3204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2165040" y="2438280"/>
                    <a:ext cx="16380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81">
                        <a:moveTo>
                          <a:pt x="1" y="0"/>
                        </a:moveTo>
                        <a:lnTo>
                          <a:pt x="0" y="169"/>
                        </a:lnTo>
                        <a:lnTo>
                          <a:pt x="103" y="181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239920" y="2438280"/>
                    <a:ext cx="8892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58">
                        <a:moveTo>
                          <a:pt x="0" y="0"/>
                        </a:moveTo>
                        <a:lnTo>
                          <a:pt x="2" y="116"/>
                        </a:lnTo>
                        <a:lnTo>
                          <a:pt x="53" y="158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322360" y="2438280"/>
                    <a:ext cx="1584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34">
                        <a:moveTo>
                          <a:pt x="0" y="0"/>
                        </a:moveTo>
                        <a:lnTo>
                          <a:pt x="0" y="119"/>
                        </a:lnTo>
                        <a:lnTo>
                          <a:pt x="10" y="134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411280" y="2438280"/>
                    <a:ext cx="32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23">
                        <a:moveTo>
                          <a:pt x="0" y="0"/>
                        </a:moveTo>
                        <a:lnTo>
                          <a:pt x="2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11360" y="2438280"/>
                    <a:ext cx="32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23">
                        <a:moveTo>
                          <a:pt x="0" y="0"/>
                        </a:moveTo>
                        <a:lnTo>
                          <a:pt x="2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608200" y="2438280"/>
                    <a:ext cx="32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23">
                        <a:moveTo>
                          <a:pt x="0" y="0"/>
                        </a:moveTo>
                        <a:lnTo>
                          <a:pt x="2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685960" y="2438280"/>
                    <a:ext cx="32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23">
                        <a:moveTo>
                          <a:pt x="0" y="0"/>
                        </a:moveTo>
                        <a:lnTo>
                          <a:pt x="2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770200" y="2438280"/>
                    <a:ext cx="288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23">
                        <a:moveTo>
                          <a:pt x="0" y="0"/>
                        </a:moveTo>
                        <a:lnTo>
                          <a:pt x="2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827080" y="2438280"/>
                    <a:ext cx="3024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29">
                        <a:moveTo>
                          <a:pt x="19" y="0"/>
                        </a:moveTo>
                        <a:lnTo>
                          <a:pt x="19" y="96"/>
                        </a:lnTo>
                        <a:lnTo>
                          <a:pt x="0" y="129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860560" y="2438280"/>
                    <a:ext cx="8568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72">
                        <a:moveTo>
                          <a:pt x="54" y="0"/>
                        </a:moveTo>
                        <a:lnTo>
                          <a:pt x="54" y="126"/>
                        </a:lnTo>
                        <a:lnTo>
                          <a:pt x="0" y="172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862000" y="2438280"/>
                    <a:ext cx="17460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81">
                        <a:moveTo>
                          <a:pt x="108" y="0"/>
                        </a:moveTo>
                        <a:lnTo>
                          <a:pt x="110" y="166"/>
                        </a:lnTo>
                        <a:lnTo>
                          <a:pt x="0" y="181"/>
                        </a:lnTo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2328840" y="2661480"/>
                  <a:ext cx="531720" cy="109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 (Continued)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0200" y="1635120"/>
            <a:ext cx="3924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the “solver” feature in Excel can also be used to minimize the error between input data and R-C model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81200" y="2421000"/>
            <a:ext cx="3089160" cy="3554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4605480" y="1614600"/>
            <a:ext cx="4086000" cy="35208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92600" y="5182560"/>
            <a:ext cx="4033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optimization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Final R-Tau model fit.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0200" y="1444680"/>
            <a:ext cx="41148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hough a little manual manipulation may be required to ensure convergence as well as constraining the end points of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4605480" y="1424160"/>
            <a:ext cx="4086000" cy="35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457200" y="2238480"/>
          <a:ext cx="1895400" cy="2824200"/>
        </p:xfrm>
        <a:graphic>
          <a:graphicData uri="http://schemas.openxmlformats.org/drawingml/2006/table">
            <a:tbl>
              <a:tblPr/>
              <a:tblGrid>
                <a:gridCol w="336600"/>
                <a:gridCol w="752400"/>
                <a:gridCol w="8064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'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u'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3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9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E-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2324160" y="2619360"/>
            <a:ext cx="220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Csr_eff=130.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1=Csr_eff*SQRT(Tau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2=Csr_eff* SQRT (Tau2)-R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3=Csr_eff* SQRT (Tau3)-R1-R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97160" y="483084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10=Max R(t) from data – SUM(R1:R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5680" y="5199120"/>
            <a:ext cx="86486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lighted values are allowed to be changed by the solver.  The other values are fixed by defin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hen repeated for every temperature heat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heated elements do not require the sqrt(t) correction as the first three rows show in this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520" y="2121840"/>
            <a:ext cx="32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{=SUM(R1:R10*(1-EXP(-</a:t>
            </a:r>
            <a:r>
              <a:rPr b="0" i="1" lang="fr-FR" sz="1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/Tau1:Tau10)))}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81120" y="3567960"/>
            <a:ext cx="2079720" cy="6422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ject to these Constrai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4:R9&gt;0.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au4:Tau10&gt;1e-6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ssembling into blocks for Superposition solution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765680" y="1771560"/>
            <a:ext cx="3784680" cy="3541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5433840" y="5496840"/>
            <a:ext cx="305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Tau FOSTER NET-LIST BLOCK FOR D1 ONL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0200" y="1444680"/>
            <a:ext cx="41338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block is assembled for each heat source self heating network and the networks interactions with the other hea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120" y="2271600"/>
            <a:ext cx="44863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equivalent Resistor – Capacito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f Heating Network (R-Ta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90920" y="1982880"/>
            <a:ext cx="819360" cy="293760"/>
          </a:xfrm>
          <a:custGeom>
            <a:avLst/>
            <a:gdLst/>
            <a:ahLst/>
            <a:rect l="l" t="t" r="r" b="b"/>
            <a:pathLst>
              <a:path w="516" h="185">
                <a:moveTo>
                  <a:pt x="0" y="185"/>
                </a:moveTo>
                <a:cubicBezTo>
                  <a:pt x="56" y="159"/>
                  <a:pt x="250" y="46"/>
                  <a:pt x="336" y="23"/>
                </a:cubicBezTo>
                <a:cubicBezTo>
                  <a:pt x="422" y="0"/>
                  <a:pt x="479" y="42"/>
                  <a:pt x="516" y="4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40200" y="1868400"/>
            <a:ext cx="1266840" cy="3686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280" y="3321000"/>
            <a:ext cx="4486320" cy="63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equivalent Resistor – Capacito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Heating Networks (R-Ta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02080" y="2948040"/>
            <a:ext cx="1617840" cy="377640"/>
          </a:xfrm>
          <a:custGeom>
            <a:avLst/>
            <a:gdLst/>
            <a:ahLst/>
            <a:rect l="l" t="t" r="r" b="b"/>
            <a:pathLst>
              <a:path w="1019" h="238">
                <a:moveTo>
                  <a:pt x="0" y="238"/>
                </a:moveTo>
                <a:cubicBezTo>
                  <a:pt x="71" y="200"/>
                  <a:pt x="255" y="18"/>
                  <a:pt x="425" y="9"/>
                </a:cubicBezTo>
                <a:cubicBezTo>
                  <a:pt x="595" y="0"/>
                  <a:pt x="895" y="147"/>
                  <a:pt x="1019" y="183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89600" y="2384280"/>
            <a:ext cx="2819520" cy="3038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Organizing the sheet for transient solution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405080" y="1531800"/>
            <a:ext cx="6216480" cy="39499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419120" y="5526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ction for power input to the hea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43160" y="1859040"/>
            <a:ext cx="2685960" cy="365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78400" y="1859040"/>
            <a:ext cx="1409760" cy="3655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25920" y="5526000"/>
            <a:ext cx="133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ction for power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89600" y="1859040"/>
            <a:ext cx="1733400" cy="365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70520" y="5526000"/>
            <a:ext cx="209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section for Temperature response calc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0960" y="1517760"/>
            <a:ext cx="1181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ell for keeping track of the overall time progress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5240" y="1527120"/>
            <a:ext cx="2685960" cy="3412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51440" y="1860480"/>
            <a:ext cx="428400" cy="36561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89280" y="5584680"/>
            <a:ext cx="87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section for Time ch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5080" y="2293200"/>
            <a:ext cx="44784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=IF(Master_Time&gt;Row_Time,Master_time-Row_time,0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781000" y="1638360"/>
            <a:ext cx="2428920" cy="74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00360" y="2523960"/>
            <a:ext cx="4524120" cy="660600"/>
          </a:xfrm>
          <a:custGeom>
            <a:avLst/>
            <a:gdLst/>
            <a:ahLst/>
            <a:rect l="l" t="t" r="r" b="b"/>
            <a:pathLst>
              <a:path w="2850" h="416">
                <a:moveTo>
                  <a:pt x="2850" y="0"/>
                </a:moveTo>
                <a:cubicBezTo>
                  <a:pt x="2681" y="69"/>
                  <a:pt x="2311" y="412"/>
                  <a:pt x="1836" y="414"/>
                </a:cubicBezTo>
                <a:cubicBezTo>
                  <a:pt x="1361" y="416"/>
                  <a:pt x="382" y="96"/>
                  <a:pt x="0" y="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67200" y="2452680"/>
            <a:ext cx="542880" cy="1699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5400" y="3695760"/>
            <a:ext cx="3597120" cy="571320"/>
          </a:xfrm>
          <a:custGeom>
            <a:avLst/>
            <a:gdLst/>
            <a:ahLst/>
            <a:rect l="l" t="t" r="r" b="b"/>
            <a:pathLst>
              <a:path w="1570" h="252">
                <a:moveTo>
                  <a:pt x="39" y="0"/>
                </a:moveTo>
                <a:cubicBezTo>
                  <a:pt x="75" y="38"/>
                  <a:pt x="0" y="204"/>
                  <a:pt x="255" y="228"/>
                </a:cubicBezTo>
                <a:cubicBezTo>
                  <a:pt x="510" y="252"/>
                  <a:pt x="1296" y="163"/>
                  <a:pt x="1570" y="14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57640" y="3666960"/>
            <a:ext cx="933480" cy="324000"/>
          </a:xfrm>
          <a:custGeom>
            <a:avLst/>
            <a:gdLst/>
            <a:ahLst/>
            <a:rect l="l" t="t" r="r" b="b"/>
            <a:pathLst>
              <a:path w="588" h="204">
                <a:moveTo>
                  <a:pt x="0" y="0"/>
                </a:moveTo>
                <a:cubicBezTo>
                  <a:pt x="45" y="23"/>
                  <a:pt x="172" y="104"/>
                  <a:pt x="270" y="138"/>
                </a:cubicBezTo>
                <a:cubicBezTo>
                  <a:pt x="368" y="172"/>
                  <a:pt x="522" y="190"/>
                  <a:pt x="588" y="2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00760" y="3870360"/>
            <a:ext cx="428760" cy="18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64000" y="3871800"/>
            <a:ext cx="428760" cy="1890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92680" y="3430440"/>
            <a:ext cx="1103400" cy="417600"/>
          </a:xfrm>
          <a:custGeom>
            <a:avLst/>
            <a:gdLst/>
            <a:ahLst/>
            <a:rect l="l" t="t" r="r" b="b"/>
            <a:pathLst>
              <a:path w="695" h="263">
                <a:moveTo>
                  <a:pt x="0" y="0"/>
                </a:moveTo>
                <a:cubicBezTo>
                  <a:pt x="87" y="19"/>
                  <a:pt x="405" y="69"/>
                  <a:pt x="521" y="113"/>
                </a:cubicBezTo>
                <a:cubicBezTo>
                  <a:pt x="637" y="157"/>
                  <a:pt x="659" y="232"/>
                  <a:pt x="695" y="263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81720" y="3857760"/>
            <a:ext cx="1305000" cy="18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19680" y="4124160"/>
            <a:ext cx="2114640" cy="684360"/>
          </a:xfrm>
          <a:custGeom>
            <a:avLst/>
            <a:gdLst/>
            <a:ahLst/>
            <a:rect l="l" t="t" r="r" b="b"/>
            <a:pathLst>
              <a:path w="1332" h="431">
                <a:moveTo>
                  <a:pt x="0" y="355"/>
                </a:moveTo>
                <a:cubicBezTo>
                  <a:pt x="149" y="358"/>
                  <a:pt x="672" y="431"/>
                  <a:pt x="894" y="372"/>
                </a:cubicBezTo>
                <a:cubicBezTo>
                  <a:pt x="1116" y="313"/>
                  <a:pt x="1241" y="77"/>
                  <a:pt x="133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8640" y="3873600"/>
            <a:ext cx="542880" cy="1699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1600" y="3223800"/>
            <a:ext cx="443268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Self heating column (each cell is a separate array formul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{=dP-D#*SUM(R1:R10*(1-EXP(-dtime/Tau1:Tau10)))}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4280" y="4530240"/>
            <a:ext cx="496296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Interaction heated columns (each cell is a separate array formul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{=dP-D#*SUM(R5:R10*(1-EXP(-dtime/Tau5:Tau10)))}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2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3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3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Table for plotting temperature output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54200" y="1846440"/>
            <a:ext cx="2028600" cy="3927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41480" y="2563920"/>
            <a:ext cx="1733400" cy="322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4871880" y="2036880"/>
            <a:ext cx="2614680" cy="322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214800" y="1635840"/>
            <a:ext cx="2823480" cy="29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SUM(D1:D1_by_D4)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300" spc="-1" strike="noStrike">
                <a:solidFill>
                  <a:srgbClr val="ff9900"/>
                </a:solidFill>
                <a:latin typeface="Arial"/>
              </a:rPr>
              <a:t>T_ambi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781360" y="1962000"/>
            <a:ext cx="1409760" cy="1105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06840" y="1943280"/>
            <a:ext cx="731880" cy="752400"/>
          </a:xfrm>
          <a:custGeom>
            <a:avLst/>
            <a:gdLst/>
            <a:ahLst/>
            <a:rect l="l" t="t" r="r" b="b"/>
            <a:pathLst>
              <a:path w="461" h="474">
                <a:moveTo>
                  <a:pt x="107" y="0"/>
                </a:moveTo>
                <a:cubicBezTo>
                  <a:pt x="99" y="34"/>
                  <a:pt x="0" y="125"/>
                  <a:pt x="59" y="204"/>
                </a:cubicBezTo>
                <a:lnTo>
                  <a:pt x="461" y="474"/>
                </a:lnTo>
              </a:path>
            </a:pathLst>
          </a:custGeom>
          <a:noFill/>
          <a:ln w="255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262480" y="2698920"/>
            <a:ext cx="619200" cy="1886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62680" y="1819440"/>
            <a:ext cx="716040" cy="428400"/>
          </a:xfrm>
          <a:custGeom>
            <a:avLst/>
            <a:gdLst/>
            <a:ahLst/>
            <a:rect l="l" t="t" r="r" b="b"/>
            <a:pathLst>
              <a:path w="451" h="270">
                <a:moveTo>
                  <a:pt x="0" y="0"/>
                </a:moveTo>
                <a:cubicBezTo>
                  <a:pt x="68" y="10"/>
                  <a:pt x="365" y="15"/>
                  <a:pt x="408" y="60"/>
                </a:cubicBezTo>
                <a:cubicBezTo>
                  <a:pt x="451" y="105"/>
                  <a:pt x="289" y="226"/>
                  <a:pt x="258" y="27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7440" y="2205000"/>
            <a:ext cx="619200" cy="1890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8360" y="2700360"/>
            <a:ext cx="619200" cy="1890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11880" y="2690640"/>
            <a:ext cx="619200" cy="1890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83560" y="2690640"/>
            <a:ext cx="618840" cy="18900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1880" y="2527200"/>
            <a:ext cx="447840" cy="278928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971800" y="2857680"/>
            <a:ext cx="1828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Note!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Time in this column can be independent of the time values in the power input se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35520" y="2681280"/>
            <a:ext cx="2657520" cy="2798640"/>
          </a:xfrm>
          <a:prstGeom prst="rect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06640" y="412596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, Select this whole reg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6534000" y="1797120"/>
            <a:ext cx="2381400" cy="3473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955960" y="4708440"/>
            <a:ext cx="18288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y 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&gt; Table op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437160" y="4267080"/>
            <a:ext cx="2175120" cy="1160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3639960" y="5810400"/>
            <a:ext cx="1873440" cy="18252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403" name=""/>
          <p:cNvSpPr/>
          <p:nvPr/>
        </p:nvSpPr>
        <p:spPr>
          <a:xfrm>
            <a:off x="7599240" y="4807080"/>
            <a:ext cx="619200" cy="18864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2240" y="4935600"/>
            <a:ext cx="3641760" cy="969840"/>
          </a:xfrm>
          <a:custGeom>
            <a:avLst/>
            <a:gdLst/>
            <a:ahLst/>
            <a:rect l="l" t="t" r="r" b="b"/>
            <a:pathLst>
              <a:path w="2294" h="611">
                <a:moveTo>
                  <a:pt x="1669" y="0"/>
                </a:moveTo>
                <a:cubicBezTo>
                  <a:pt x="1727" y="71"/>
                  <a:pt x="2294" y="323"/>
                  <a:pt x="2016" y="425"/>
                </a:cubicBezTo>
                <a:cubicBezTo>
                  <a:pt x="1738" y="527"/>
                  <a:pt x="420" y="572"/>
                  <a:pt x="0" y="611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3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3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3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3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4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3984480" y="2671920"/>
            <a:ext cx="4624200" cy="1139760"/>
            <a:chOff x="3984480" y="2671920"/>
            <a:chExt cx="4624200" cy="1139760"/>
          </a:xfrm>
        </p:grpSpPr>
        <p:sp>
          <p:nvSpPr>
            <p:cNvPr id="406" name=""/>
            <p:cNvSpPr/>
            <p:nvPr/>
          </p:nvSpPr>
          <p:spPr>
            <a:xfrm>
              <a:off x="4476600" y="2806920"/>
              <a:ext cx="401148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76600" y="34466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76600" y="331632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76600" y="31928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76600" y="306252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76600" y="293868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76600" y="280692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051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4480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747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300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433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8120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115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418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97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100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497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782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179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482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61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164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467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846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49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546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831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2284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31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8168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213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5132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895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21988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5776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88080" y="280692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76600" y="2806920"/>
              <a:ext cx="4011480" cy="763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76600" y="2806920"/>
              <a:ext cx="17280" cy="7635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0" y="99"/>
                  </a:lnTo>
                  <a:lnTo>
                    <a:pt x="2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76600" y="35467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76600" y="35164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6600" y="34927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76600" y="3470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76600" y="34466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76600" y="3416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76600" y="33926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76600" y="33703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76600" y="33386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76600" y="33163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76600" y="32925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76600" y="32626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76600" y="32385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76600" y="32166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6600" y="3192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76600" y="31626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76600" y="3138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76600" y="31165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76600" y="3084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76600" y="30625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76600" y="30387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76600" y="30085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6600" y="29847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76600" y="29610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76600" y="29386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76600" y="29070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6600" y="28846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76600" y="28609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76600" y="28306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76600" y="28069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47800" y="357048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47800" y="34466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47800" y="331632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47800" y="31928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47800" y="306252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47800" y="293868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47800" y="280692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76600" y="357048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47660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6051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74480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8747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501300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1433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28120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4115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5418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797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8100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9497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60782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2179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63482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861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6164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7467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8846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0149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1546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2831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42284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5531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68168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8213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95132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80895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821988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5776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488080" y="355464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47660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332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581004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648612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15464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82136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488080" y="357048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74720" y="35164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98400" y="33926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74720" y="32626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98400" y="31388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74720" y="30085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98400" y="288468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4720" y="27529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76240" y="36403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92200" y="364032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80880" y="364032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36800" y="364032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25480" y="364032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70240" y="364032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59280" y="364032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02280" y="367524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6200000">
              <a:off x="3741840" y="313776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(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84480" y="2671920"/>
              <a:ext cx="4624200" cy="11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981600" y="3835440"/>
            <a:ext cx="4624200" cy="1139760"/>
            <a:chOff x="3981600" y="3835440"/>
            <a:chExt cx="4624200" cy="1139760"/>
          </a:xfrm>
        </p:grpSpPr>
        <p:sp>
          <p:nvSpPr>
            <p:cNvPr id="539" name=""/>
            <p:cNvSpPr/>
            <p:nvPr/>
          </p:nvSpPr>
          <p:spPr>
            <a:xfrm>
              <a:off x="4473720" y="3970440"/>
              <a:ext cx="401148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73720" y="461016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73720" y="44798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73720" y="435636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73720" y="42260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73720" y="410220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73720" y="39704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022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4192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18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1012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404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7832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086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389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68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8071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68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753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150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453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832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135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438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817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0120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1517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2802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41996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502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7880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184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4844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866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21700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5488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485200" y="39704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73720" y="3970440"/>
              <a:ext cx="4011480" cy="763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73720" y="3970440"/>
              <a:ext cx="17280" cy="7635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0" y="99"/>
                  </a:lnTo>
                  <a:lnTo>
                    <a:pt x="2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73720" y="47102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720" y="46800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73720" y="46562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73720" y="46339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473720" y="4610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73720" y="45799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73720" y="4556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73720" y="4533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73720" y="45021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73720" y="44798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73720" y="44560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73720" y="44262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73720" y="44020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73720" y="4380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73720" y="4356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73720" y="4326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73720" y="4302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73720" y="42800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3720" y="4248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73720" y="42260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73720" y="42022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73720" y="41720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73720" y="41482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73720" y="41245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73720" y="41022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73720" y="40705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73720" y="40482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73720" y="40244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73720" y="39942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73720" y="39704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4920" y="473400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44920" y="461016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44920" y="44798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44920" y="435636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44920" y="42260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444920" y="410220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444920" y="39704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73720" y="473400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47372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46022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474192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48718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501012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51404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27832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4086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55389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56768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58071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59468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0753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2150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3453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4832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6135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7438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8817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0120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1517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2802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41996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502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767880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78184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94844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80866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821700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835488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485200" y="47181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47372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14044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580716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648324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715176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781848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8485200" y="47340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71840" y="46800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95520" y="455616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71840" y="442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95520" y="430236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71840" y="41720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95520" y="404820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71840" y="39164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73360" y="48038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89320" y="48038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778000" y="48038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3920" y="48038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22600" y="48038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67360" y="48038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56400" y="48038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400" y="48387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3738960" y="430128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(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81600" y="3835440"/>
              <a:ext cx="4624200" cy="11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72072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Final plotted Results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714240" y="1504800"/>
            <a:ext cx="3248280" cy="1139400"/>
            <a:chOff x="714240" y="1504800"/>
            <a:chExt cx="3248280" cy="1139400"/>
          </a:xfrm>
        </p:grpSpPr>
        <p:sp>
          <p:nvSpPr>
            <p:cNvPr id="673" name=""/>
            <p:cNvSpPr/>
            <p:nvPr/>
          </p:nvSpPr>
          <p:spPr>
            <a:xfrm>
              <a:off x="714240" y="1504800"/>
              <a:ext cx="3248280" cy="1139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31840" y="1571400"/>
              <a:ext cx="26208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31840" y="1571400"/>
              <a:ext cx="2620800" cy="79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31840" y="1571400"/>
              <a:ext cx="19080" cy="79524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0"/>
                  </a:moveTo>
                  <a:lnTo>
                    <a:pt x="0" y="120"/>
                  </a:lnTo>
                  <a:lnTo>
                    <a:pt x="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1840" y="23468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131840" y="2320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131840" y="2300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31840" y="22737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253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31840" y="2226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131840" y="2206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131840" y="21870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131840" y="2161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31840" y="2141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31840" y="2114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31840" y="20948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31840" y="2068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31840" y="2048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027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31840" y="2001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31840" y="1981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31840" y="1955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31840" y="19357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31840" y="1909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31840" y="1889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31840" y="1869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31840" y="1842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31840" y="1822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31840" y="17956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31840" y="1775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31840" y="1750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31840" y="1730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31840" y="1710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31840" y="16837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31840" y="16635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31840" y="1636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131840" y="16167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31840" y="1590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31840" y="1571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3400" y="236700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03400" y="225360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03400" y="21412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03400" y="20278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03400" y="19090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03400" y="17956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03400" y="168372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03400" y="157140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31840" y="2367000"/>
              <a:ext cx="2620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113184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2366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134136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144612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154944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16542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75896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86372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196848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0718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217656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28132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238608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5002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60352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70828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81304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29178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302256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12588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23064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3540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344016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4492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364968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3752640" y="23529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113184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165420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17656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270828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323064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3752640" y="236700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24920" y="23202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44640" y="22068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44640" y="20959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44640" y="19814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944640" y="18626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24920" y="1750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44640" y="16369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944640" y="15260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29680" y="24256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91560" y="24256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139840" y="24256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45640" y="24256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93920" y="24256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90360" y="24256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46760" y="25189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6200000">
              <a:off x="564840" y="189468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wer (W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4240" y="1504800"/>
              <a:ext cx="3248280" cy="1139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131840" y="1771560"/>
            <a:ext cx="2621160" cy="581040"/>
          </a:xfrm>
          <a:custGeom>
            <a:avLst/>
            <a:gdLst/>
            <a:ahLst/>
            <a:rect l="l" t="t" r="r" b="b"/>
            <a:pathLst>
              <a:path w="1651" h="366">
                <a:moveTo>
                  <a:pt x="0" y="5"/>
                </a:moveTo>
                <a:lnTo>
                  <a:pt x="66" y="5"/>
                </a:lnTo>
                <a:lnTo>
                  <a:pt x="66" y="43"/>
                </a:lnTo>
                <a:lnTo>
                  <a:pt x="132" y="43"/>
                </a:lnTo>
                <a:lnTo>
                  <a:pt x="132" y="152"/>
                </a:lnTo>
                <a:lnTo>
                  <a:pt x="197" y="152"/>
                </a:lnTo>
                <a:lnTo>
                  <a:pt x="197" y="278"/>
                </a:lnTo>
                <a:lnTo>
                  <a:pt x="263" y="278"/>
                </a:lnTo>
                <a:lnTo>
                  <a:pt x="263" y="366"/>
                </a:lnTo>
                <a:lnTo>
                  <a:pt x="329" y="366"/>
                </a:lnTo>
                <a:lnTo>
                  <a:pt x="329" y="366"/>
                </a:lnTo>
                <a:lnTo>
                  <a:pt x="395" y="366"/>
                </a:lnTo>
                <a:lnTo>
                  <a:pt x="395" y="366"/>
                </a:lnTo>
                <a:lnTo>
                  <a:pt x="461" y="366"/>
                </a:lnTo>
                <a:lnTo>
                  <a:pt x="461" y="366"/>
                </a:lnTo>
                <a:lnTo>
                  <a:pt x="526" y="366"/>
                </a:lnTo>
                <a:lnTo>
                  <a:pt x="526" y="366"/>
                </a:lnTo>
                <a:lnTo>
                  <a:pt x="592" y="366"/>
                </a:lnTo>
                <a:lnTo>
                  <a:pt x="592" y="366"/>
                </a:lnTo>
                <a:lnTo>
                  <a:pt x="658" y="366"/>
                </a:lnTo>
                <a:lnTo>
                  <a:pt x="658" y="366"/>
                </a:lnTo>
                <a:lnTo>
                  <a:pt x="724" y="366"/>
                </a:lnTo>
                <a:lnTo>
                  <a:pt x="724" y="366"/>
                </a:lnTo>
                <a:lnTo>
                  <a:pt x="760" y="366"/>
                </a:lnTo>
                <a:lnTo>
                  <a:pt x="760" y="366"/>
                </a:lnTo>
                <a:lnTo>
                  <a:pt x="790" y="366"/>
                </a:lnTo>
                <a:lnTo>
                  <a:pt x="790" y="366"/>
                </a:lnTo>
                <a:lnTo>
                  <a:pt x="927" y="366"/>
                </a:lnTo>
                <a:lnTo>
                  <a:pt x="927" y="366"/>
                </a:lnTo>
                <a:lnTo>
                  <a:pt x="993" y="366"/>
                </a:lnTo>
                <a:lnTo>
                  <a:pt x="993" y="366"/>
                </a:lnTo>
                <a:lnTo>
                  <a:pt x="1059" y="366"/>
                </a:lnTo>
                <a:lnTo>
                  <a:pt x="1059" y="366"/>
                </a:lnTo>
                <a:lnTo>
                  <a:pt x="1125" y="366"/>
                </a:lnTo>
                <a:lnTo>
                  <a:pt x="1125" y="366"/>
                </a:lnTo>
                <a:lnTo>
                  <a:pt x="1190" y="366"/>
                </a:lnTo>
                <a:lnTo>
                  <a:pt x="1190" y="366"/>
                </a:lnTo>
                <a:lnTo>
                  <a:pt x="1256" y="366"/>
                </a:lnTo>
                <a:lnTo>
                  <a:pt x="1256" y="5"/>
                </a:lnTo>
                <a:lnTo>
                  <a:pt x="1651" y="0"/>
                </a:lnTo>
                <a:lnTo>
                  <a:pt x="1322" y="5"/>
                </a:ln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259080" y="1509840"/>
            <a:ext cx="493920" cy="188640"/>
            <a:chOff x="3259080" y="1509840"/>
            <a:chExt cx="493920" cy="188640"/>
          </a:xfrm>
        </p:grpSpPr>
        <p:sp>
          <p:nvSpPr>
            <p:cNvPr id="772" name=""/>
            <p:cNvSpPr/>
            <p:nvPr/>
          </p:nvSpPr>
          <p:spPr>
            <a:xfrm>
              <a:off x="3259080" y="1509840"/>
              <a:ext cx="493920" cy="18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87520" y="1603440"/>
              <a:ext cx="2574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92280" y="157464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96400" y="15555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714240" y="2671560"/>
            <a:ext cx="3248280" cy="1139400"/>
            <a:chOff x="714240" y="2671560"/>
            <a:chExt cx="3248280" cy="1139400"/>
          </a:xfrm>
        </p:grpSpPr>
        <p:sp>
          <p:nvSpPr>
            <p:cNvPr id="777" name=""/>
            <p:cNvSpPr/>
            <p:nvPr/>
          </p:nvSpPr>
          <p:spPr>
            <a:xfrm>
              <a:off x="714240" y="2671560"/>
              <a:ext cx="3248280" cy="1139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31840" y="2738160"/>
              <a:ext cx="26208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131840" y="2738160"/>
              <a:ext cx="2620800" cy="79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131840" y="2738160"/>
              <a:ext cx="19080" cy="79524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0"/>
                  </a:moveTo>
                  <a:lnTo>
                    <a:pt x="0" y="120"/>
                  </a:lnTo>
                  <a:lnTo>
                    <a:pt x="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131840" y="3513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131840" y="3486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31840" y="3466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31840" y="3440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31840" y="3420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31840" y="3393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31840" y="33735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31840" y="33537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31840" y="3328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131840" y="3308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131840" y="3281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31840" y="3261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31840" y="3234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31840" y="3214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31840" y="3194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31840" y="31680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131840" y="3148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31840" y="3122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131840" y="3102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131840" y="30758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31840" y="3056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31840" y="3035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31840" y="3009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131840" y="2989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31840" y="2962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31840" y="2942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31840" y="2917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31840" y="2896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31840" y="2877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31840" y="2850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31840" y="2830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131840" y="28036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131840" y="2783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31840" y="2757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131840" y="2738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03400" y="35337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03400" y="34203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03400" y="33080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103400" y="31946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03400" y="30758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103400" y="29624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103400" y="28504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103400" y="27381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131840" y="3533760"/>
              <a:ext cx="2620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13184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2366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134136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44612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154944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16542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175896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86372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196848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20718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217656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228132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238608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25002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260352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70828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81304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9178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02256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12588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23064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333540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344016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54492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364968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3752640" y="351972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113184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165420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17656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270828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323064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3752640" y="353376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24920" y="3486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44640" y="33735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44640" y="32626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44640" y="31482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44640" y="30294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024920" y="2917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44640" y="28036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44640" y="26928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29680" y="3592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591560" y="359244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139840" y="35924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45640" y="359244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93920" y="359244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90360" y="359244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246760" y="368568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6200000">
              <a:off x="564840" y="306144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wer (W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4240" y="2671560"/>
              <a:ext cx="3248280" cy="1139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14240" y="3836880"/>
            <a:ext cx="3248280" cy="1139400"/>
            <a:chOff x="714240" y="3836880"/>
            <a:chExt cx="3248280" cy="1139400"/>
          </a:xfrm>
        </p:grpSpPr>
        <p:sp>
          <p:nvSpPr>
            <p:cNvPr id="875" name=""/>
            <p:cNvSpPr/>
            <p:nvPr/>
          </p:nvSpPr>
          <p:spPr>
            <a:xfrm>
              <a:off x="714240" y="3836880"/>
              <a:ext cx="3248280" cy="1139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31840" y="3903480"/>
              <a:ext cx="26208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31840" y="3903480"/>
              <a:ext cx="2620800" cy="79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31840" y="3903480"/>
              <a:ext cx="19080" cy="79524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0"/>
                  </a:moveTo>
                  <a:lnTo>
                    <a:pt x="0" y="120"/>
                  </a:lnTo>
                  <a:lnTo>
                    <a:pt x="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31840" y="4678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31840" y="4652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31840" y="4632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31840" y="46058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31840" y="45856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31840" y="45586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131840" y="4538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31840" y="4519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31840" y="4493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31840" y="4473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31840" y="44467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31840" y="4426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31840" y="4400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31840" y="4380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31840" y="4359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31840" y="4333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31840" y="4313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31840" y="4287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31840" y="4267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31840" y="4241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31840" y="4221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131840" y="4201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31840" y="41745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31840" y="4154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131840" y="41277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31840" y="4107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131840" y="4082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131840" y="4062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31840" y="4042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131840" y="4015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131840" y="3995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131840" y="39690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131840" y="39488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131840" y="39225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131840" y="3903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03400" y="46990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03400" y="45856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03400" y="44733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03400" y="43599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03400" y="42411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03400" y="41277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03400" y="401580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03400" y="39034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31840" y="4699080"/>
              <a:ext cx="2620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113184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12366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134136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144612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154944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16542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175896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186372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196848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0718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217656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28132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238608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25002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60352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270828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281304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9178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302256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312588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23064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33540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44016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54492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364968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3752640" y="468504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113184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165420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217656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270828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23064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3752640" y="469908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24920" y="46522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44640" y="45388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44640" y="44280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944640" y="43135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44640" y="41947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24920" y="40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44640" y="39690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44640" y="385812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29680" y="4757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91560" y="475776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139840" y="47577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45640" y="475776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93920" y="47577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90360" y="475776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46760" y="485100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6200000">
              <a:off x="564840" y="422676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wer (W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4240" y="3836880"/>
              <a:ext cx="3248280" cy="1139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14240" y="5001840"/>
            <a:ext cx="3248280" cy="1139760"/>
            <a:chOff x="714240" y="5001840"/>
            <a:chExt cx="3248280" cy="1139760"/>
          </a:xfrm>
        </p:grpSpPr>
        <p:sp>
          <p:nvSpPr>
            <p:cNvPr id="973" name=""/>
            <p:cNvSpPr/>
            <p:nvPr/>
          </p:nvSpPr>
          <p:spPr>
            <a:xfrm>
              <a:off x="714240" y="5001840"/>
              <a:ext cx="3248280" cy="113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31840" y="5068440"/>
              <a:ext cx="2620800" cy="7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131840" y="5068440"/>
              <a:ext cx="2620800" cy="795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31840" y="5068440"/>
              <a:ext cx="19080" cy="795240"/>
            </a:xfrm>
            <a:custGeom>
              <a:avLst/>
              <a:gdLst/>
              <a:ahLst/>
              <a:rect l="l" t="t" r="r" b="b"/>
              <a:pathLst>
                <a:path w="2" h="120">
                  <a:moveTo>
                    <a:pt x="0" y="0"/>
                  </a:moveTo>
                  <a:lnTo>
                    <a:pt x="0" y="120"/>
                  </a:lnTo>
                  <a:lnTo>
                    <a:pt x="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31840" y="5844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131840" y="5817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31840" y="5797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131840" y="5770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131840" y="5750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31840" y="57240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31840" y="5704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31840" y="5684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31840" y="5658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131840" y="56386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31840" y="5612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31840" y="5591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131840" y="55652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31840" y="5545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31840" y="55252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131840" y="5498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131840" y="54784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31840" y="5452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31840" y="5433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31840" y="54061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31840" y="5386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31840" y="5366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31840" y="5339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31840" y="53197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31840" y="52927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31840" y="52729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131840" y="5247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31840" y="52272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31840" y="5207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131840" y="51807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131840" y="5160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31840" y="51339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31840" y="51138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31840" y="50875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131840" y="5068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103400" y="58640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57506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03400" y="56386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03400" y="552528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03400" y="540612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529272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03400" y="518076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103400" y="5068440"/>
              <a:ext cx="56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131840" y="5864040"/>
              <a:ext cx="2620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113184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12366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34136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144612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154944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6542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175896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186372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196848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20718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17656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28132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608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25002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260352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270828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281304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29178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302256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312588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323064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333540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344016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354492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364968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3752640" y="5850360"/>
              <a:ext cx="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113184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165420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217656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70828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323064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3752640" y="5864040"/>
              <a:ext cx="0" cy="1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4920" y="5817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944640" y="570420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44640" y="55929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944640" y="54784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44640" y="53596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024920" y="5247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44640" y="513396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44640" y="50230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.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129680" y="5923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591560" y="5923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39840" y="59230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45640" y="5923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193920" y="5923080"/>
              <a:ext cx="13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90360" y="5923080"/>
              <a:ext cx="18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46760" y="60163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rot="16200000">
              <a:off x="564840" y="5392080"/>
              <a:ext cx="47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ower (W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4240" y="5001840"/>
              <a:ext cx="3248280" cy="11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1155600" y="2971800"/>
            <a:ext cx="2568600" cy="546120"/>
          </a:xfrm>
          <a:custGeom>
            <a:avLst/>
            <a:gdLst/>
            <a:ahLst/>
            <a:rect l="l" t="t" r="r" b="b"/>
            <a:pathLst>
              <a:path w="1618" h="344">
                <a:moveTo>
                  <a:pt x="0" y="344"/>
                </a:moveTo>
                <a:lnTo>
                  <a:pt x="66" y="344"/>
                </a:lnTo>
                <a:lnTo>
                  <a:pt x="66" y="344"/>
                </a:lnTo>
                <a:lnTo>
                  <a:pt x="132" y="344"/>
                </a:lnTo>
                <a:lnTo>
                  <a:pt x="132" y="0"/>
                </a:lnTo>
                <a:lnTo>
                  <a:pt x="197" y="0"/>
                </a:lnTo>
                <a:lnTo>
                  <a:pt x="197" y="0"/>
                </a:lnTo>
                <a:lnTo>
                  <a:pt x="263" y="0"/>
                </a:lnTo>
                <a:lnTo>
                  <a:pt x="263" y="0"/>
                </a:lnTo>
                <a:lnTo>
                  <a:pt x="329" y="0"/>
                </a:lnTo>
                <a:lnTo>
                  <a:pt x="329" y="344"/>
                </a:lnTo>
                <a:lnTo>
                  <a:pt x="395" y="344"/>
                </a:lnTo>
                <a:lnTo>
                  <a:pt x="395" y="344"/>
                </a:lnTo>
                <a:lnTo>
                  <a:pt x="461" y="344"/>
                </a:lnTo>
                <a:lnTo>
                  <a:pt x="461" y="344"/>
                </a:lnTo>
                <a:lnTo>
                  <a:pt x="526" y="344"/>
                </a:lnTo>
                <a:lnTo>
                  <a:pt x="526" y="344"/>
                </a:lnTo>
                <a:lnTo>
                  <a:pt x="592" y="344"/>
                </a:lnTo>
                <a:lnTo>
                  <a:pt x="592" y="344"/>
                </a:lnTo>
                <a:lnTo>
                  <a:pt x="658" y="344"/>
                </a:lnTo>
                <a:lnTo>
                  <a:pt x="658" y="344"/>
                </a:lnTo>
                <a:lnTo>
                  <a:pt x="724" y="344"/>
                </a:lnTo>
                <a:lnTo>
                  <a:pt x="724" y="344"/>
                </a:lnTo>
                <a:lnTo>
                  <a:pt x="760" y="344"/>
                </a:lnTo>
                <a:lnTo>
                  <a:pt x="760" y="344"/>
                </a:lnTo>
                <a:lnTo>
                  <a:pt x="790" y="344"/>
                </a:lnTo>
                <a:lnTo>
                  <a:pt x="790" y="344"/>
                </a:lnTo>
                <a:lnTo>
                  <a:pt x="927" y="344"/>
                </a:lnTo>
                <a:lnTo>
                  <a:pt x="927" y="344"/>
                </a:lnTo>
                <a:lnTo>
                  <a:pt x="993" y="344"/>
                </a:lnTo>
                <a:lnTo>
                  <a:pt x="993" y="344"/>
                </a:lnTo>
                <a:lnTo>
                  <a:pt x="1059" y="344"/>
                </a:lnTo>
                <a:lnTo>
                  <a:pt x="1059" y="344"/>
                </a:lnTo>
                <a:lnTo>
                  <a:pt x="1125" y="344"/>
                </a:lnTo>
                <a:lnTo>
                  <a:pt x="1125" y="344"/>
                </a:lnTo>
                <a:lnTo>
                  <a:pt x="1190" y="344"/>
                </a:lnTo>
                <a:lnTo>
                  <a:pt x="1190" y="344"/>
                </a:lnTo>
                <a:lnTo>
                  <a:pt x="1256" y="344"/>
                </a:lnTo>
                <a:lnTo>
                  <a:pt x="1256" y="344"/>
                </a:lnTo>
                <a:lnTo>
                  <a:pt x="1618" y="342"/>
                </a:lnTo>
                <a:lnTo>
                  <a:pt x="1322" y="34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38320" y="4403880"/>
            <a:ext cx="2604960" cy="285480"/>
          </a:xfrm>
          <a:custGeom>
            <a:avLst/>
            <a:gdLst/>
            <a:ahLst/>
            <a:rect l="l" t="t" r="r" b="b"/>
            <a:pathLst>
              <a:path w="1641" h="180">
                <a:moveTo>
                  <a:pt x="0" y="180"/>
                </a:moveTo>
                <a:lnTo>
                  <a:pt x="66" y="180"/>
                </a:lnTo>
                <a:lnTo>
                  <a:pt x="66" y="0"/>
                </a:lnTo>
                <a:lnTo>
                  <a:pt x="132" y="0"/>
                </a:lnTo>
                <a:lnTo>
                  <a:pt x="132" y="0"/>
                </a:lnTo>
                <a:lnTo>
                  <a:pt x="197" y="0"/>
                </a:lnTo>
                <a:lnTo>
                  <a:pt x="197" y="180"/>
                </a:lnTo>
                <a:lnTo>
                  <a:pt x="263" y="180"/>
                </a:lnTo>
                <a:lnTo>
                  <a:pt x="263" y="180"/>
                </a:lnTo>
                <a:lnTo>
                  <a:pt x="329" y="180"/>
                </a:lnTo>
                <a:lnTo>
                  <a:pt x="329" y="180"/>
                </a:lnTo>
                <a:lnTo>
                  <a:pt x="395" y="180"/>
                </a:lnTo>
                <a:lnTo>
                  <a:pt x="395" y="0"/>
                </a:lnTo>
                <a:lnTo>
                  <a:pt x="461" y="0"/>
                </a:lnTo>
                <a:lnTo>
                  <a:pt x="461" y="0"/>
                </a:lnTo>
                <a:lnTo>
                  <a:pt x="526" y="0"/>
                </a:lnTo>
                <a:lnTo>
                  <a:pt x="526" y="180"/>
                </a:lnTo>
                <a:lnTo>
                  <a:pt x="592" y="180"/>
                </a:lnTo>
                <a:lnTo>
                  <a:pt x="592" y="180"/>
                </a:lnTo>
                <a:lnTo>
                  <a:pt x="658" y="180"/>
                </a:lnTo>
                <a:lnTo>
                  <a:pt x="658" y="180"/>
                </a:lnTo>
                <a:lnTo>
                  <a:pt x="724" y="180"/>
                </a:lnTo>
                <a:lnTo>
                  <a:pt x="724" y="180"/>
                </a:lnTo>
                <a:lnTo>
                  <a:pt x="760" y="180"/>
                </a:lnTo>
                <a:lnTo>
                  <a:pt x="760" y="180"/>
                </a:lnTo>
                <a:lnTo>
                  <a:pt x="790" y="180"/>
                </a:lnTo>
                <a:lnTo>
                  <a:pt x="790" y="180"/>
                </a:lnTo>
                <a:lnTo>
                  <a:pt x="927" y="180"/>
                </a:lnTo>
                <a:lnTo>
                  <a:pt x="927" y="180"/>
                </a:lnTo>
                <a:lnTo>
                  <a:pt x="993" y="180"/>
                </a:lnTo>
                <a:lnTo>
                  <a:pt x="993" y="180"/>
                </a:lnTo>
                <a:lnTo>
                  <a:pt x="1059" y="180"/>
                </a:lnTo>
                <a:lnTo>
                  <a:pt x="1059" y="180"/>
                </a:lnTo>
                <a:lnTo>
                  <a:pt x="1125" y="180"/>
                </a:lnTo>
                <a:lnTo>
                  <a:pt x="1125" y="180"/>
                </a:lnTo>
                <a:lnTo>
                  <a:pt x="1190" y="180"/>
                </a:lnTo>
                <a:lnTo>
                  <a:pt x="1190" y="180"/>
                </a:lnTo>
                <a:lnTo>
                  <a:pt x="1256" y="180"/>
                </a:lnTo>
                <a:lnTo>
                  <a:pt x="1256" y="180"/>
                </a:lnTo>
                <a:lnTo>
                  <a:pt x="1641" y="178"/>
                </a:lnTo>
                <a:lnTo>
                  <a:pt x="1322" y="180"/>
                </a:ln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57400" y="5172120"/>
            <a:ext cx="2585880" cy="690480"/>
          </a:xfrm>
          <a:custGeom>
            <a:avLst/>
            <a:gdLst/>
            <a:ahLst/>
            <a:rect l="l" t="t" r="r" b="b"/>
            <a:pathLst>
              <a:path w="1629" h="435">
                <a:moveTo>
                  <a:pt x="0" y="435"/>
                </a:moveTo>
                <a:lnTo>
                  <a:pt x="66" y="435"/>
                </a:lnTo>
                <a:lnTo>
                  <a:pt x="66" y="435"/>
                </a:lnTo>
                <a:lnTo>
                  <a:pt x="132" y="435"/>
                </a:lnTo>
                <a:lnTo>
                  <a:pt x="132" y="435"/>
                </a:lnTo>
                <a:lnTo>
                  <a:pt x="197" y="435"/>
                </a:lnTo>
                <a:lnTo>
                  <a:pt x="197" y="363"/>
                </a:lnTo>
                <a:lnTo>
                  <a:pt x="263" y="363"/>
                </a:lnTo>
                <a:lnTo>
                  <a:pt x="263" y="291"/>
                </a:lnTo>
                <a:lnTo>
                  <a:pt x="329" y="291"/>
                </a:lnTo>
                <a:lnTo>
                  <a:pt x="329" y="220"/>
                </a:lnTo>
                <a:lnTo>
                  <a:pt x="395" y="220"/>
                </a:lnTo>
                <a:lnTo>
                  <a:pt x="395" y="144"/>
                </a:lnTo>
                <a:lnTo>
                  <a:pt x="461" y="144"/>
                </a:lnTo>
                <a:lnTo>
                  <a:pt x="461" y="72"/>
                </a:lnTo>
                <a:lnTo>
                  <a:pt x="526" y="72"/>
                </a:lnTo>
                <a:lnTo>
                  <a:pt x="526" y="0"/>
                </a:lnTo>
                <a:lnTo>
                  <a:pt x="592" y="0"/>
                </a:lnTo>
                <a:lnTo>
                  <a:pt x="592" y="435"/>
                </a:lnTo>
                <a:lnTo>
                  <a:pt x="658" y="435"/>
                </a:lnTo>
                <a:lnTo>
                  <a:pt x="658" y="435"/>
                </a:lnTo>
                <a:lnTo>
                  <a:pt x="724" y="435"/>
                </a:lnTo>
                <a:lnTo>
                  <a:pt x="724" y="435"/>
                </a:lnTo>
                <a:lnTo>
                  <a:pt x="760" y="435"/>
                </a:lnTo>
                <a:lnTo>
                  <a:pt x="760" y="435"/>
                </a:lnTo>
                <a:lnTo>
                  <a:pt x="790" y="435"/>
                </a:lnTo>
                <a:lnTo>
                  <a:pt x="790" y="435"/>
                </a:lnTo>
                <a:lnTo>
                  <a:pt x="927" y="435"/>
                </a:lnTo>
                <a:lnTo>
                  <a:pt x="927" y="435"/>
                </a:lnTo>
                <a:lnTo>
                  <a:pt x="993" y="435"/>
                </a:lnTo>
                <a:lnTo>
                  <a:pt x="993" y="435"/>
                </a:lnTo>
                <a:lnTo>
                  <a:pt x="1059" y="435"/>
                </a:lnTo>
                <a:lnTo>
                  <a:pt x="1059" y="435"/>
                </a:lnTo>
                <a:lnTo>
                  <a:pt x="1125" y="435"/>
                </a:lnTo>
                <a:lnTo>
                  <a:pt x="1125" y="435"/>
                </a:lnTo>
                <a:lnTo>
                  <a:pt x="1190" y="435"/>
                </a:lnTo>
                <a:lnTo>
                  <a:pt x="1190" y="435"/>
                </a:lnTo>
                <a:lnTo>
                  <a:pt x="1256" y="435"/>
                </a:lnTo>
                <a:lnTo>
                  <a:pt x="1256" y="435"/>
                </a:lnTo>
                <a:lnTo>
                  <a:pt x="1629" y="432"/>
                </a:lnTo>
                <a:lnTo>
                  <a:pt x="1322" y="435"/>
                </a:ln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984480" y="1504800"/>
            <a:ext cx="4624560" cy="1140120"/>
            <a:chOff x="3984480" y="1504800"/>
            <a:chExt cx="4624560" cy="1140120"/>
          </a:xfrm>
        </p:grpSpPr>
        <p:sp>
          <p:nvSpPr>
            <p:cNvPr id="1074" name=""/>
            <p:cNvSpPr/>
            <p:nvPr/>
          </p:nvSpPr>
          <p:spPr>
            <a:xfrm>
              <a:off x="4476600" y="1639800"/>
              <a:ext cx="401184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476600" y="227952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476600" y="214956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476600" y="202572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476600" y="189540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476600" y="177156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76600" y="163980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054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4516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751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1336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1436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28156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118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54184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6800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8104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9500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786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2182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4824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4864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168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74676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8850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153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550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35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2320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55316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8204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8217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95168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0899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22024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35812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488440" y="163980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476600" y="1639800"/>
              <a:ext cx="4011840" cy="763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76600" y="1639800"/>
              <a:ext cx="17640" cy="7635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0" y="99"/>
                  </a:lnTo>
                  <a:lnTo>
                    <a:pt x="2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476600" y="23796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476600" y="23493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476600" y="23256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76600" y="2303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76600" y="22795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76600" y="2249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76600" y="22255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76600" y="2203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76600" y="217188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76600" y="2149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476600" y="21258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76600" y="2095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76600" y="20718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476600" y="204948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76600" y="20257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476600" y="199548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476600" y="19717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476600" y="19494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476600" y="191772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476600" y="18954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476600" y="1871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476600" y="18414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476600" y="181764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76600" y="179388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76600" y="1771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76600" y="173988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76600" y="1717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76600" y="16938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76600" y="166356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76600" y="1639800"/>
              <a:ext cx="17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48160" y="24033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48160" y="227952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448160" y="21495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448160" y="202572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48160" y="18954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8160" y="17715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448160" y="16398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76600" y="2403360"/>
              <a:ext cx="4011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4766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46054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4516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48751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501336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51436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528156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54118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554184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56800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8104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59500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60786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2182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634824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4864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6168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674676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68850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70153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1550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72835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742320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755316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768204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78217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795168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80899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822024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835812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8488440" y="238752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447660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514368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581040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48648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715500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782172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8488440" y="240336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375080" y="2349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98760" y="222552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75080" y="20955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298760" y="197172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375080" y="1841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98760" y="171756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75080" y="15858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76600" y="2473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092560" y="247320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81240" y="247320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37160" y="247320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25840" y="247320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770600" y="247320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459280" y="247320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002280" y="250812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6200000">
              <a:off x="3741840" y="197064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(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6310440" y="1512720"/>
              <a:ext cx="612720" cy="593640"/>
              <a:chOff x="6310440" y="1512720"/>
              <a:chExt cx="612720" cy="593640"/>
            </a:xfrm>
          </p:grpSpPr>
          <p:sp>
            <p:nvSpPr>
              <p:cNvPr id="1206" name=""/>
              <p:cNvSpPr/>
              <p:nvPr/>
            </p:nvSpPr>
            <p:spPr>
              <a:xfrm>
                <a:off x="6310440" y="1512720"/>
                <a:ext cx="612720" cy="593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48240" y="1582560"/>
                <a:ext cx="2494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680160" y="15364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_D1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48240" y="1728360"/>
                <a:ext cx="249480" cy="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80160" y="168228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_D2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348240" y="1874520"/>
                <a:ext cx="24948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680160" y="182844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_D3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348240" y="2020680"/>
                <a:ext cx="2494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680160" y="1974600"/>
                <a:ext cx="206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T_D4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3984480" y="1504800"/>
              <a:ext cx="4624560" cy="11401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4476600" y="1795320"/>
            <a:ext cx="3354480" cy="608040"/>
          </a:xfrm>
          <a:custGeom>
            <a:avLst/>
            <a:gdLst/>
            <a:ahLst/>
            <a:rect l="l" t="t" r="r" b="b"/>
            <a:pathLst>
              <a:path w="2113" h="383">
                <a:moveTo>
                  <a:pt x="0" y="383"/>
                </a:moveTo>
                <a:lnTo>
                  <a:pt x="6" y="320"/>
                </a:lnTo>
                <a:lnTo>
                  <a:pt x="18" y="301"/>
                </a:lnTo>
                <a:lnTo>
                  <a:pt x="23" y="286"/>
                </a:lnTo>
                <a:lnTo>
                  <a:pt x="35" y="271"/>
                </a:lnTo>
                <a:lnTo>
                  <a:pt x="41" y="257"/>
                </a:lnTo>
                <a:lnTo>
                  <a:pt x="53" y="242"/>
                </a:lnTo>
                <a:lnTo>
                  <a:pt x="58" y="233"/>
                </a:lnTo>
                <a:lnTo>
                  <a:pt x="70" y="223"/>
                </a:lnTo>
                <a:lnTo>
                  <a:pt x="76" y="208"/>
                </a:lnTo>
                <a:lnTo>
                  <a:pt x="82" y="199"/>
                </a:lnTo>
                <a:lnTo>
                  <a:pt x="93" y="184"/>
                </a:lnTo>
                <a:lnTo>
                  <a:pt x="99" y="170"/>
                </a:lnTo>
                <a:lnTo>
                  <a:pt x="111" y="160"/>
                </a:lnTo>
                <a:lnTo>
                  <a:pt x="117" y="150"/>
                </a:lnTo>
                <a:lnTo>
                  <a:pt x="128" y="140"/>
                </a:lnTo>
                <a:lnTo>
                  <a:pt x="134" y="131"/>
                </a:lnTo>
                <a:lnTo>
                  <a:pt x="146" y="121"/>
                </a:lnTo>
                <a:lnTo>
                  <a:pt x="152" y="116"/>
                </a:lnTo>
                <a:lnTo>
                  <a:pt x="158" y="106"/>
                </a:lnTo>
                <a:lnTo>
                  <a:pt x="169" y="102"/>
                </a:lnTo>
                <a:lnTo>
                  <a:pt x="175" y="87"/>
                </a:lnTo>
                <a:lnTo>
                  <a:pt x="187" y="68"/>
                </a:lnTo>
                <a:lnTo>
                  <a:pt x="193" y="58"/>
                </a:lnTo>
                <a:lnTo>
                  <a:pt x="204" y="48"/>
                </a:lnTo>
                <a:lnTo>
                  <a:pt x="210" y="43"/>
                </a:lnTo>
                <a:lnTo>
                  <a:pt x="222" y="34"/>
                </a:lnTo>
                <a:lnTo>
                  <a:pt x="228" y="29"/>
                </a:lnTo>
                <a:lnTo>
                  <a:pt x="233" y="19"/>
                </a:lnTo>
                <a:lnTo>
                  <a:pt x="245" y="14"/>
                </a:lnTo>
                <a:lnTo>
                  <a:pt x="251" y="9"/>
                </a:lnTo>
                <a:lnTo>
                  <a:pt x="263" y="38"/>
                </a:lnTo>
                <a:lnTo>
                  <a:pt x="268" y="43"/>
                </a:lnTo>
                <a:lnTo>
                  <a:pt x="280" y="48"/>
                </a:lnTo>
                <a:lnTo>
                  <a:pt x="286" y="48"/>
                </a:lnTo>
                <a:lnTo>
                  <a:pt x="298" y="53"/>
                </a:lnTo>
                <a:lnTo>
                  <a:pt x="303" y="53"/>
                </a:lnTo>
                <a:lnTo>
                  <a:pt x="309" y="58"/>
                </a:lnTo>
                <a:lnTo>
                  <a:pt x="321" y="58"/>
                </a:lnTo>
                <a:lnTo>
                  <a:pt x="327" y="63"/>
                </a:lnTo>
                <a:lnTo>
                  <a:pt x="338" y="63"/>
                </a:lnTo>
                <a:lnTo>
                  <a:pt x="344" y="72"/>
                </a:lnTo>
                <a:lnTo>
                  <a:pt x="356" y="77"/>
                </a:lnTo>
                <a:lnTo>
                  <a:pt x="362" y="77"/>
                </a:lnTo>
                <a:lnTo>
                  <a:pt x="374" y="82"/>
                </a:lnTo>
                <a:lnTo>
                  <a:pt x="379" y="87"/>
                </a:lnTo>
                <a:lnTo>
                  <a:pt x="385" y="87"/>
                </a:lnTo>
                <a:lnTo>
                  <a:pt x="397" y="92"/>
                </a:lnTo>
                <a:lnTo>
                  <a:pt x="403" y="92"/>
                </a:lnTo>
                <a:lnTo>
                  <a:pt x="414" y="97"/>
                </a:lnTo>
                <a:lnTo>
                  <a:pt x="420" y="97"/>
                </a:lnTo>
                <a:lnTo>
                  <a:pt x="432" y="121"/>
                </a:lnTo>
                <a:lnTo>
                  <a:pt x="438" y="136"/>
                </a:lnTo>
                <a:lnTo>
                  <a:pt x="444" y="145"/>
                </a:lnTo>
                <a:lnTo>
                  <a:pt x="455" y="155"/>
                </a:lnTo>
                <a:lnTo>
                  <a:pt x="461" y="160"/>
                </a:lnTo>
                <a:lnTo>
                  <a:pt x="473" y="165"/>
                </a:lnTo>
                <a:lnTo>
                  <a:pt x="479" y="170"/>
                </a:lnTo>
                <a:lnTo>
                  <a:pt x="490" y="174"/>
                </a:lnTo>
                <a:lnTo>
                  <a:pt x="496" y="179"/>
                </a:lnTo>
                <a:lnTo>
                  <a:pt x="508" y="184"/>
                </a:lnTo>
                <a:lnTo>
                  <a:pt x="514" y="170"/>
                </a:lnTo>
                <a:lnTo>
                  <a:pt x="519" y="160"/>
                </a:lnTo>
                <a:lnTo>
                  <a:pt x="531" y="160"/>
                </a:lnTo>
                <a:lnTo>
                  <a:pt x="537" y="155"/>
                </a:lnTo>
                <a:lnTo>
                  <a:pt x="549" y="155"/>
                </a:lnTo>
                <a:lnTo>
                  <a:pt x="554" y="155"/>
                </a:lnTo>
                <a:lnTo>
                  <a:pt x="566" y="150"/>
                </a:lnTo>
                <a:lnTo>
                  <a:pt x="572" y="150"/>
                </a:lnTo>
                <a:lnTo>
                  <a:pt x="584" y="150"/>
                </a:lnTo>
                <a:lnTo>
                  <a:pt x="589" y="150"/>
                </a:lnTo>
                <a:lnTo>
                  <a:pt x="595" y="140"/>
                </a:lnTo>
                <a:lnTo>
                  <a:pt x="607" y="140"/>
                </a:lnTo>
                <a:lnTo>
                  <a:pt x="613" y="136"/>
                </a:lnTo>
                <a:lnTo>
                  <a:pt x="624" y="136"/>
                </a:lnTo>
                <a:lnTo>
                  <a:pt x="630" y="131"/>
                </a:lnTo>
                <a:lnTo>
                  <a:pt x="642" y="131"/>
                </a:lnTo>
                <a:lnTo>
                  <a:pt x="648" y="131"/>
                </a:lnTo>
                <a:lnTo>
                  <a:pt x="659" y="126"/>
                </a:lnTo>
                <a:lnTo>
                  <a:pt x="665" y="126"/>
                </a:lnTo>
                <a:lnTo>
                  <a:pt x="671" y="126"/>
                </a:lnTo>
                <a:lnTo>
                  <a:pt x="683" y="131"/>
                </a:lnTo>
                <a:lnTo>
                  <a:pt x="689" y="136"/>
                </a:lnTo>
                <a:lnTo>
                  <a:pt x="700" y="140"/>
                </a:lnTo>
                <a:lnTo>
                  <a:pt x="706" y="140"/>
                </a:lnTo>
                <a:lnTo>
                  <a:pt x="718" y="140"/>
                </a:lnTo>
                <a:lnTo>
                  <a:pt x="724" y="145"/>
                </a:lnTo>
                <a:lnTo>
                  <a:pt x="735" y="145"/>
                </a:lnTo>
                <a:lnTo>
                  <a:pt x="741" y="145"/>
                </a:lnTo>
                <a:lnTo>
                  <a:pt x="747" y="145"/>
                </a:lnTo>
                <a:lnTo>
                  <a:pt x="759" y="145"/>
                </a:lnTo>
                <a:lnTo>
                  <a:pt x="765" y="184"/>
                </a:lnTo>
                <a:lnTo>
                  <a:pt x="776" y="203"/>
                </a:lnTo>
                <a:lnTo>
                  <a:pt x="782" y="213"/>
                </a:lnTo>
                <a:lnTo>
                  <a:pt x="794" y="223"/>
                </a:lnTo>
                <a:lnTo>
                  <a:pt x="800" y="233"/>
                </a:lnTo>
                <a:lnTo>
                  <a:pt x="811" y="242"/>
                </a:lnTo>
                <a:lnTo>
                  <a:pt x="817" y="247"/>
                </a:lnTo>
                <a:lnTo>
                  <a:pt x="823" y="257"/>
                </a:lnTo>
                <a:lnTo>
                  <a:pt x="835" y="262"/>
                </a:lnTo>
                <a:lnTo>
                  <a:pt x="840" y="267"/>
                </a:lnTo>
                <a:lnTo>
                  <a:pt x="852" y="271"/>
                </a:lnTo>
                <a:lnTo>
                  <a:pt x="858" y="276"/>
                </a:lnTo>
                <a:lnTo>
                  <a:pt x="870" y="281"/>
                </a:lnTo>
                <a:lnTo>
                  <a:pt x="875" y="286"/>
                </a:lnTo>
                <a:lnTo>
                  <a:pt x="887" y="286"/>
                </a:lnTo>
                <a:lnTo>
                  <a:pt x="893" y="291"/>
                </a:lnTo>
                <a:lnTo>
                  <a:pt x="899" y="296"/>
                </a:lnTo>
                <a:lnTo>
                  <a:pt x="910" y="296"/>
                </a:lnTo>
                <a:lnTo>
                  <a:pt x="916" y="301"/>
                </a:lnTo>
                <a:lnTo>
                  <a:pt x="928" y="301"/>
                </a:lnTo>
                <a:lnTo>
                  <a:pt x="934" y="305"/>
                </a:lnTo>
                <a:lnTo>
                  <a:pt x="945" y="305"/>
                </a:lnTo>
                <a:lnTo>
                  <a:pt x="951" y="310"/>
                </a:lnTo>
                <a:lnTo>
                  <a:pt x="963" y="310"/>
                </a:lnTo>
                <a:lnTo>
                  <a:pt x="969" y="315"/>
                </a:lnTo>
                <a:lnTo>
                  <a:pt x="975" y="315"/>
                </a:lnTo>
                <a:lnTo>
                  <a:pt x="986" y="315"/>
                </a:lnTo>
                <a:lnTo>
                  <a:pt x="992" y="320"/>
                </a:lnTo>
                <a:lnTo>
                  <a:pt x="1004" y="320"/>
                </a:lnTo>
                <a:lnTo>
                  <a:pt x="1010" y="320"/>
                </a:lnTo>
                <a:lnTo>
                  <a:pt x="1021" y="325"/>
                </a:lnTo>
                <a:lnTo>
                  <a:pt x="1027" y="325"/>
                </a:lnTo>
                <a:lnTo>
                  <a:pt x="1039" y="325"/>
                </a:lnTo>
                <a:lnTo>
                  <a:pt x="1045" y="325"/>
                </a:lnTo>
                <a:lnTo>
                  <a:pt x="1050" y="330"/>
                </a:lnTo>
                <a:lnTo>
                  <a:pt x="1062" y="330"/>
                </a:lnTo>
                <a:lnTo>
                  <a:pt x="1068" y="330"/>
                </a:lnTo>
                <a:lnTo>
                  <a:pt x="1080" y="330"/>
                </a:lnTo>
                <a:lnTo>
                  <a:pt x="1086" y="330"/>
                </a:lnTo>
                <a:lnTo>
                  <a:pt x="1097" y="334"/>
                </a:lnTo>
                <a:lnTo>
                  <a:pt x="1103" y="334"/>
                </a:lnTo>
                <a:lnTo>
                  <a:pt x="1115" y="334"/>
                </a:lnTo>
                <a:lnTo>
                  <a:pt x="1121" y="334"/>
                </a:lnTo>
                <a:lnTo>
                  <a:pt x="1126" y="334"/>
                </a:lnTo>
                <a:lnTo>
                  <a:pt x="1138" y="339"/>
                </a:lnTo>
                <a:lnTo>
                  <a:pt x="1144" y="339"/>
                </a:lnTo>
                <a:lnTo>
                  <a:pt x="1156" y="339"/>
                </a:lnTo>
                <a:lnTo>
                  <a:pt x="1161" y="339"/>
                </a:lnTo>
                <a:lnTo>
                  <a:pt x="1173" y="339"/>
                </a:lnTo>
                <a:lnTo>
                  <a:pt x="1179" y="339"/>
                </a:lnTo>
                <a:lnTo>
                  <a:pt x="1191" y="339"/>
                </a:lnTo>
                <a:lnTo>
                  <a:pt x="1196" y="339"/>
                </a:lnTo>
                <a:lnTo>
                  <a:pt x="1202" y="344"/>
                </a:lnTo>
                <a:lnTo>
                  <a:pt x="1214" y="344"/>
                </a:lnTo>
                <a:lnTo>
                  <a:pt x="1220" y="344"/>
                </a:lnTo>
                <a:lnTo>
                  <a:pt x="1231" y="344"/>
                </a:lnTo>
                <a:lnTo>
                  <a:pt x="1237" y="344"/>
                </a:lnTo>
                <a:lnTo>
                  <a:pt x="1249" y="344"/>
                </a:lnTo>
                <a:lnTo>
                  <a:pt x="1255" y="344"/>
                </a:lnTo>
                <a:lnTo>
                  <a:pt x="1266" y="344"/>
                </a:lnTo>
                <a:lnTo>
                  <a:pt x="1272" y="344"/>
                </a:lnTo>
                <a:lnTo>
                  <a:pt x="1278" y="349"/>
                </a:lnTo>
                <a:lnTo>
                  <a:pt x="1290" y="349"/>
                </a:lnTo>
                <a:lnTo>
                  <a:pt x="1296" y="349"/>
                </a:lnTo>
                <a:lnTo>
                  <a:pt x="1307" y="349"/>
                </a:lnTo>
                <a:lnTo>
                  <a:pt x="1313" y="349"/>
                </a:lnTo>
                <a:lnTo>
                  <a:pt x="1325" y="349"/>
                </a:lnTo>
                <a:lnTo>
                  <a:pt x="1331" y="349"/>
                </a:lnTo>
                <a:lnTo>
                  <a:pt x="1336" y="349"/>
                </a:lnTo>
                <a:lnTo>
                  <a:pt x="1348" y="349"/>
                </a:lnTo>
                <a:lnTo>
                  <a:pt x="1354" y="349"/>
                </a:lnTo>
                <a:lnTo>
                  <a:pt x="1366" y="349"/>
                </a:lnTo>
                <a:lnTo>
                  <a:pt x="1371" y="349"/>
                </a:lnTo>
                <a:lnTo>
                  <a:pt x="1383" y="349"/>
                </a:lnTo>
                <a:lnTo>
                  <a:pt x="1389" y="354"/>
                </a:lnTo>
                <a:lnTo>
                  <a:pt x="1401" y="354"/>
                </a:lnTo>
                <a:lnTo>
                  <a:pt x="1406" y="354"/>
                </a:lnTo>
                <a:lnTo>
                  <a:pt x="1412" y="354"/>
                </a:lnTo>
                <a:lnTo>
                  <a:pt x="1424" y="354"/>
                </a:lnTo>
                <a:lnTo>
                  <a:pt x="1430" y="354"/>
                </a:lnTo>
                <a:lnTo>
                  <a:pt x="1441" y="354"/>
                </a:lnTo>
                <a:lnTo>
                  <a:pt x="1447" y="354"/>
                </a:lnTo>
                <a:lnTo>
                  <a:pt x="1459" y="354"/>
                </a:lnTo>
                <a:lnTo>
                  <a:pt x="1465" y="354"/>
                </a:lnTo>
                <a:lnTo>
                  <a:pt x="1477" y="354"/>
                </a:lnTo>
                <a:lnTo>
                  <a:pt x="1482" y="354"/>
                </a:lnTo>
                <a:lnTo>
                  <a:pt x="1488" y="354"/>
                </a:lnTo>
                <a:lnTo>
                  <a:pt x="1500" y="354"/>
                </a:lnTo>
                <a:lnTo>
                  <a:pt x="1506" y="354"/>
                </a:lnTo>
                <a:lnTo>
                  <a:pt x="1517" y="354"/>
                </a:lnTo>
                <a:lnTo>
                  <a:pt x="1523" y="354"/>
                </a:lnTo>
                <a:lnTo>
                  <a:pt x="1535" y="354"/>
                </a:lnTo>
                <a:lnTo>
                  <a:pt x="1541" y="359"/>
                </a:lnTo>
                <a:lnTo>
                  <a:pt x="1552" y="359"/>
                </a:lnTo>
                <a:lnTo>
                  <a:pt x="1558" y="359"/>
                </a:lnTo>
                <a:lnTo>
                  <a:pt x="1564" y="359"/>
                </a:lnTo>
                <a:lnTo>
                  <a:pt x="1576" y="359"/>
                </a:lnTo>
                <a:lnTo>
                  <a:pt x="1582" y="359"/>
                </a:lnTo>
                <a:lnTo>
                  <a:pt x="1593" y="359"/>
                </a:lnTo>
                <a:lnTo>
                  <a:pt x="1599" y="359"/>
                </a:lnTo>
                <a:lnTo>
                  <a:pt x="1611" y="296"/>
                </a:lnTo>
                <a:lnTo>
                  <a:pt x="1617" y="276"/>
                </a:lnTo>
                <a:lnTo>
                  <a:pt x="1628" y="257"/>
                </a:lnTo>
                <a:lnTo>
                  <a:pt x="1634" y="242"/>
                </a:lnTo>
                <a:lnTo>
                  <a:pt x="1640" y="233"/>
                </a:lnTo>
                <a:lnTo>
                  <a:pt x="1652" y="218"/>
                </a:lnTo>
                <a:lnTo>
                  <a:pt x="1657" y="208"/>
                </a:lnTo>
                <a:lnTo>
                  <a:pt x="1669" y="199"/>
                </a:lnTo>
                <a:lnTo>
                  <a:pt x="1675" y="189"/>
                </a:lnTo>
                <a:lnTo>
                  <a:pt x="1687" y="179"/>
                </a:lnTo>
                <a:lnTo>
                  <a:pt x="1692" y="170"/>
                </a:lnTo>
                <a:lnTo>
                  <a:pt x="1704" y="160"/>
                </a:lnTo>
                <a:lnTo>
                  <a:pt x="1710" y="150"/>
                </a:lnTo>
                <a:lnTo>
                  <a:pt x="1716" y="145"/>
                </a:lnTo>
                <a:lnTo>
                  <a:pt x="1727" y="136"/>
                </a:lnTo>
                <a:lnTo>
                  <a:pt x="1733" y="131"/>
                </a:lnTo>
                <a:lnTo>
                  <a:pt x="1745" y="126"/>
                </a:lnTo>
                <a:lnTo>
                  <a:pt x="1751" y="121"/>
                </a:lnTo>
                <a:lnTo>
                  <a:pt x="1762" y="111"/>
                </a:lnTo>
                <a:lnTo>
                  <a:pt x="1768" y="106"/>
                </a:lnTo>
                <a:lnTo>
                  <a:pt x="1780" y="102"/>
                </a:lnTo>
                <a:lnTo>
                  <a:pt x="1786" y="97"/>
                </a:lnTo>
                <a:lnTo>
                  <a:pt x="1792" y="92"/>
                </a:lnTo>
                <a:lnTo>
                  <a:pt x="1803" y="87"/>
                </a:lnTo>
                <a:lnTo>
                  <a:pt x="1809" y="87"/>
                </a:lnTo>
                <a:lnTo>
                  <a:pt x="1821" y="82"/>
                </a:lnTo>
                <a:lnTo>
                  <a:pt x="1827" y="77"/>
                </a:lnTo>
                <a:lnTo>
                  <a:pt x="1838" y="72"/>
                </a:lnTo>
                <a:lnTo>
                  <a:pt x="1844" y="68"/>
                </a:lnTo>
                <a:lnTo>
                  <a:pt x="1856" y="68"/>
                </a:lnTo>
                <a:lnTo>
                  <a:pt x="1862" y="63"/>
                </a:lnTo>
                <a:lnTo>
                  <a:pt x="1868" y="58"/>
                </a:lnTo>
                <a:lnTo>
                  <a:pt x="1879" y="58"/>
                </a:lnTo>
                <a:lnTo>
                  <a:pt x="1885" y="53"/>
                </a:lnTo>
                <a:lnTo>
                  <a:pt x="1897" y="53"/>
                </a:lnTo>
                <a:lnTo>
                  <a:pt x="1903" y="48"/>
                </a:lnTo>
                <a:lnTo>
                  <a:pt x="1914" y="43"/>
                </a:lnTo>
                <a:lnTo>
                  <a:pt x="1920" y="43"/>
                </a:lnTo>
                <a:lnTo>
                  <a:pt x="1932" y="38"/>
                </a:lnTo>
                <a:lnTo>
                  <a:pt x="1938" y="38"/>
                </a:lnTo>
                <a:lnTo>
                  <a:pt x="1943" y="34"/>
                </a:lnTo>
                <a:lnTo>
                  <a:pt x="1955" y="34"/>
                </a:lnTo>
                <a:lnTo>
                  <a:pt x="1961" y="29"/>
                </a:lnTo>
                <a:lnTo>
                  <a:pt x="1973" y="29"/>
                </a:lnTo>
                <a:lnTo>
                  <a:pt x="1978" y="29"/>
                </a:lnTo>
                <a:lnTo>
                  <a:pt x="1990" y="24"/>
                </a:lnTo>
                <a:lnTo>
                  <a:pt x="1996" y="24"/>
                </a:lnTo>
                <a:lnTo>
                  <a:pt x="2008" y="19"/>
                </a:lnTo>
                <a:lnTo>
                  <a:pt x="2013" y="19"/>
                </a:lnTo>
                <a:lnTo>
                  <a:pt x="2019" y="19"/>
                </a:lnTo>
                <a:lnTo>
                  <a:pt x="2031" y="14"/>
                </a:lnTo>
                <a:lnTo>
                  <a:pt x="2037" y="14"/>
                </a:lnTo>
                <a:lnTo>
                  <a:pt x="2048" y="9"/>
                </a:lnTo>
                <a:lnTo>
                  <a:pt x="2054" y="9"/>
                </a:lnTo>
                <a:lnTo>
                  <a:pt x="2066" y="9"/>
                </a:lnTo>
                <a:lnTo>
                  <a:pt x="2072" y="9"/>
                </a:lnTo>
                <a:lnTo>
                  <a:pt x="2083" y="5"/>
                </a:lnTo>
                <a:lnTo>
                  <a:pt x="2089" y="5"/>
                </a:lnTo>
                <a:lnTo>
                  <a:pt x="2095" y="5"/>
                </a:lnTo>
                <a:lnTo>
                  <a:pt x="2107" y="0"/>
                </a:lnTo>
                <a:lnTo>
                  <a:pt x="2113" y="0"/>
                </a:lnTo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486320" y="2951280"/>
            <a:ext cx="3325680" cy="609480"/>
          </a:xfrm>
          <a:custGeom>
            <a:avLst/>
            <a:gdLst/>
            <a:ahLst/>
            <a:rect l="l" t="t" r="r" b="b"/>
            <a:pathLst>
              <a:path w="2095" h="384">
                <a:moveTo>
                  <a:pt x="0" y="384"/>
                </a:moveTo>
                <a:lnTo>
                  <a:pt x="6" y="355"/>
                </a:lnTo>
                <a:lnTo>
                  <a:pt x="18" y="340"/>
                </a:lnTo>
                <a:lnTo>
                  <a:pt x="23" y="331"/>
                </a:lnTo>
                <a:lnTo>
                  <a:pt x="35" y="321"/>
                </a:lnTo>
                <a:lnTo>
                  <a:pt x="41" y="316"/>
                </a:lnTo>
                <a:lnTo>
                  <a:pt x="53" y="306"/>
                </a:lnTo>
                <a:lnTo>
                  <a:pt x="58" y="301"/>
                </a:lnTo>
                <a:lnTo>
                  <a:pt x="70" y="297"/>
                </a:lnTo>
                <a:lnTo>
                  <a:pt x="76" y="292"/>
                </a:lnTo>
                <a:lnTo>
                  <a:pt x="82" y="287"/>
                </a:lnTo>
                <a:lnTo>
                  <a:pt x="93" y="272"/>
                </a:lnTo>
                <a:lnTo>
                  <a:pt x="99" y="262"/>
                </a:lnTo>
                <a:lnTo>
                  <a:pt x="111" y="258"/>
                </a:lnTo>
                <a:lnTo>
                  <a:pt x="117" y="248"/>
                </a:lnTo>
                <a:lnTo>
                  <a:pt x="128" y="243"/>
                </a:lnTo>
                <a:lnTo>
                  <a:pt x="134" y="238"/>
                </a:lnTo>
                <a:lnTo>
                  <a:pt x="146" y="233"/>
                </a:lnTo>
                <a:lnTo>
                  <a:pt x="152" y="228"/>
                </a:lnTo>
                <a:lnTo>
                  <a:pt x="158" y="224"/>
                </a:lnTo>
                <a:lnTo>
                  <a:pt x="169" y="224"/>
                </a:lnTo>
                <a:lnTo>
                  <a:pt x="175" y="165"/>
                </a:lnTo>
                <a:lnTo>
                  <a:pt x="187" y="146"/>
                </a:lnTo>
                <a:lnTo>
                  <a:pt x="193" y="131"/>
                </a:lnTo>
                <a:lnTo>
                  <a:pt x="204" y="112"/>
                </a:lnTo>
                <a:lnTo>
                  <a:pt x="210" y="102"/>
                </a:lnTo>
                <a:lnTo>
                  <a:pt x="222" y="87"/>
                </a:lnTo>
                <a:lnTo>
                  <a:pt x="228" y="73"/>
                </a:lnTo>
                <a:lnTo>
                  <a:pt x="233" y="63"/>
                </a:lnTo>
                <a:lnTo>
                  <a:pt x="245" y="53"/>
                </a:lnTo>
                <a:lnTo>
                  <a:pt x="251" y="39"/>
                </a:lnTo>
                <a:lnTo>
                  <a:pt x="263" y="49"/>
                </a:lnTo>
                <a:lnTo>
                  <a:pt x="268" y="53"/>
                </a:lnTo>
                <a:lnTo>
                  <a:pt x="280" y="49"/>
                </a:lnTo>
                <a:lnTo>
                  <a:pt x="286" y="49"/>
                </a:lnTo>
                <a:lnTo>
                  <a:pt x="298" y="44"/>
                </a:lnTo>
                <a:lnTo>
                  <a:pt x="303" y="39"/>
                </a:lnTo>
                <a:lnTo>
                  <a:pt x="309" y="34"/>
                </a:lnTo>
                <a:lnTo>
                  <a:pt x="321" y="34"/>
                </a:lnTo>
                <a:lnTo>
                  <a:pt x="327" y="29"/>
                </a:lnTo>
                <a:lnTo>
                  <a:pt x="338" y="24"/>
                </a:lnTo>
                <a:lnTo>
                  <a:pt x="344" y="24"/>
                </a:lnTo>
                <a:lnTo>
                  <a:pt x="356" y="19"/>
                </a:lnTo>
                <a:lnTo>
                  <a:pt x="362" y="19"/>
                </a:lnTo>
                <a:lnTo>
                  <a:pt x="374" y="15"/>
                </a:lnTo>
                <a:lnTo>
                  <a:pt x="379" y="15"/>
                </a:lnTo>
                <a:lnTo>
                  <a:pt x="385" y="10"/>
                </a:lnTo>
                <a:lnTo>
                  <a:pt x="397" y="10"/>
                </a:lnTo>
                <a:lnTo>
                  <a:pt x="403" y="5"/>
                </a:lnTo>
                <a:lnTo>
                  <a:pt x="414" y="5"/>
                </a:lnTo>
                <a:lnTo>
                  <a:pt x="420" y="0"/>
                </a:lnTo>
                <a:lnTo>
                  <a:pt x="432" y="53"/>
                </a:lnTo>
                <a:lnTo>
                  <a:pt x="438" y="68"/>
                </a:lnTo>
                <a:lnTo>
                  <a:pt x="444" y="83"/>
                </a:lnTo>
                <a:lnTo>
                  <a:pt x="455" y="92"/>
                </a:lnTo>
                <a:lnTo>
                  <a:pt x="461" y="102"/>
                </a:lnTo>
                <a:lnTo>
                  <a:pt x="473" y="112"/>
                </a:lnTo>
                <a:lnTo>
                  <a:pt x="479" y="122"/>
                </a:lnTo>
                <a:lnTo>
                  <a:pt x="490" y="126"/>
                </a:lnTo>
                <a:lnTo>
                  <a:pt x="496" y="136"/>
                </a:lnTo>
                <a:lnTo>
                  <a:pt x="508" y="141"/>
                </a:lnTo>
                <a:lnTo>
                  <a:pt x="514" y="126"/>
                </a:lnTo>
                <a:lnTo>
                  <a:pt x="519" y="122"/>
                </a:lnTo>
                <a:lnTo>
                  <a:pt x="531" y="117"/>
                </a:lnTo>
                <a:lnTo>
                  <a:pt x="537" y="117"/>
                </a:lnTo>
                <a:lnTo>
                  <a:pt x="549" y="117"/>
                </a:lnTo>
                <a:lnTo>
                  <a:pt x="554" y="117"/>
                </a:lnTo>
                <a:lnTo>
                  <a:pt x="566" y="117"/>
                </a:lnTo>
                <a:lnTo>
                  <a:pt x="572" y="117"/>
                </a:lnTo>
                <a:lnTo>
                  <a:pt x="584" y="122"/>
                </a:lnTo>
                <a:lnTo>
                  <a:pt x="589" y="122"/>
                </a:lnTo>
                <a:lnTo>
                  <a:pt x="595" y="112"/>
                </a:lnTo>
                <a:lnTo>
                  <a:pt x="607" y="112"/>
                </a:lnTo>
                <a:lnTo>
                  <a:pt x="613" y="112"/>
                </a:lnTo>
                <a:lnTo>
                  <a:pt x="624" y="107"/>
                </a:lnTo>
                <a:lnTo>
                  <a:pt x="630" y="107"/>
                </a:lnTo>
                <a:lnTo>
                  <a:pt x="642" y="107"/>
                </a:lnTo>
                <a:lnTo>
                  <a:pt x="648" y="107"/>
                </a:lnTo>
                <a:lnTo>
                  <a:pt x="659" y="107"/>
                </a:lnTo>
                <a:lnTo>
                  <a:pt x="665" y="107"/>
                </a:lnTo>
                <a:lnTo>
                  <a:pt x="671" y="107"/>
                </a:lnTo>
                <a:lnTo>
                  <a:pt x="683" y="112"/>
                </a:lnTo>
                <a:lnTo>
                  <a:pt x="689" y="117"/>
                </a:lnTo>
                <a:lnTo>
                  <a:pt x="700" y="122"/>
                </a:lnTo>
                <a:lnTo>
                  <a:pt x="706" y="122"/>
                </a:lnTo>
                <a:lnTo>
                  <a:pt x="718" y="126"/>
                </a:lnTo>
                <a:lnTo>
                  <a:pt x="724" y="126"/>
                </a:lnTo>
                <a:lnTo>
                  <a:pt x="735" y="126"/>
                </a:lnTo>
                <a:lnTo>
                  <a:pt x="741" y="131"/>
                </a:lnTo>
                <a:lnTo>
                  <a:pt x="747" y="131"/>
                </a:lnTo>
                <a:lnTo>
                  <a:pt x="759" y="131"/>
                </a:lnTo>
                <a:lnTo>
                  <a:pt x="765" y="170"/>
                </a:lnTo>
                <a:lnTo>
                  <a:pt x="776" y="190"/>
                </a:lnTo>
                <a:lnTo>
                  <a:pt x="782" y="199"/>
                </a:lnTo>
                <a:lnTo>
                  <a:pt x="794" y="214"/>
                </a:lnTo>
                <a:lnTo>
                  <a:pt x="800" y="219"/>
                </a:lnTo>
                <a:lnTo>
                  <a:pt x="811" y="228"/>
                </a:lnTo>
                <a:lnTo>
                  <a:pt x="817" y="238"/>
                </a:lnTo>
                <a:lnTo>
                  <a:pt x="823" y="243"/>
                </a:lnTo>
                <a:lnTo>
                  <a:pt x="835" y="248"/>
                </a:lnTo>
                <a:lnTo>
                  <a:pt x="840" y="253"/>
                </a:lnTo>
                <a:lnTo>
                  <a:pt x="852" y="262"/>
                </a:lnTo>
                <a:lnTo>
                  <a:pt x="858" y="267"/>
                </a:lnTo>
                <a:lnTo>
                  <a:pt x="870" y="267"/>
                </a:lnTo>
                <a:lnTo>
                  <a:pt x="875" y="272"/>
                </a:lnTo>
                <a:lnTo>
                  <a:pt x="887" y="277"/>
                </a:lnTo>
                <a:lnTo>
                  <a:pt x="893" y="282"/>
                </a:lnTo>
                <a:lnTo>
                  <a:pt x="899" y="287"/>
                </a:lnTo>
                <a:lnTo>
                  <a:pt x="910" y="287"/>
                </a:lnTo>
                <a:lnTo>
                  <a:pt x="916" y="292"/>
                </a:lnTo>
                <a:lnTo>
                  <a:pt x="928" y="297"/>
                </a:lnTo>
                <a:lnTo>
                  <a:pt x="934" y="297"/>
                </a:lnTo>
                <a:lnTo>
                  <a:pt x="945" y="301"/>
                </a:lnTo>
                <a:lnTo>
                  <a:pt x="951" y="301"/>
                </a:lnTo>
                <a:lnTo>
                  <a:pt x="963" y="306"/>
                </a:lnTo>
                <a:lnTo>
                  <a:pt x="969" y="306"/>
                </a:lnTo>
                <a:lnTo>
                  <a:pt x="975" y="306"/>
                </a:lnTo>
                <a:lnTo>
                  <a:pt x="986" y="311"/>
                </a:lnTo>
                <a:lnTo>
                  <a:pt x="992" y="311"/>
                </a:lnTo>
                <a:lnTo>
                  <a:pt x="1004" y="316"/>
                </a:lnTo>
                <a:lnTo>
                  <a:pt x="1010" y="316"/>
                </a:lnTo>
                <a:lnTo>
                  <a:pt x="1021" y="316"/>
                </a:lnTo>
                <a:lnTo>
                  <a:pt x="1027" y="321"/>
                </a:lnTo>
                <a:lnTo>
                  <a:pt x="1039" y="321"/>
                </a:lnTo>
                <a:lnTo>
                  <a:pt x="1045" y="321"/>
                </a:lnTo>
                <a:lnTo>
                  <a:pt x="1050" y="321"/>
                </a:lnTo>
                <a:lnTo>
                  <a:pt x="1062" y="326"/>
                </a:lnTo>
                <a:lnTo>
                  <a:pt x="1068" y="326"/>
                </a:lnTo>
                <a:lnTo>
                  <a:pt x="1080" y="326"/>
                </a:lnTo>
                <a:lnTo>
                  <a:pt x="1086" y="326"/>
                </a:lnTo>
                <a:lnTo>
                  <a:pt x="1097" y="331"/>
                </a:lnTo>
                <a:lnTo>
                  <a:pt x="1103" y="331"/>
                </a:lnTo>
                <a:lnTo>
                  <a:pt x="1115" y="331"/>
                </a:lnTo>
                <a:lnTo>
                  <a:pt x="1121" y="331"/>
                </a:lnTo>
                <a:lnTo>
                  <a:pt x="1126" y="331"/>
                </a:lnTo>
                <a:lnTo>
                  <a:pt x="1138" y="335"/>
                </a:lnTo>
                <a:lnTo>
                  <a:pt x="1144" y="335"/>
                </a:lnTo>
                <a:lnTo>
                  <a:pt x="1156" y="335"/>
                </a:lnTo>
                <a:lnTo>
                  <a:pt x="1161" y="335"/>
                </a:lnTo>
                <a:lnTo>
                  <a:pt x="1173" y="335"/>
                </a:lnTo>
                <a:lnTo>
                  <a:pt x="1179" y="335"/>
                </a:lnTo>
                <a:lnTo>
                  <a:pt x="1191" y="335"/>
                </a:lnTo>
                <a:lnTo>
                  <a:pt x="1196" y="340"/>
                </a:lnTo>
                <a:lnTo>
                  <a:pt x="1202" y="340"/>
                </a:lnTo>
                <a:lnTo>
                  <a:pt x="1214" y="340"/>
                </a:lnTo>
                <a:lnTo>
                  <a:pt x="1220" y="340"/>
                </a:lnTo>
                <a:lnTo>
                  <a:pt x="1231" y="340"/>
                </a:lnTo>
                <a:lnTo>
                  <a:pt x="1237" y="340"/>
                </a:lnTo>
                <a:lnTo>
                  <a:pt x="1249" y="340"/>
                </a:lnTo>
                <a:lnTo>
                  <a:pt x="1255" y="345"/>
                </a:lnTo>
                <a:lnTo>
                  <a:pt x="1266" y="345"/>
                </a:lnTo>
                <a:lnTo>
                  <a:pt x="1272" y="345"/>
                </a:lnTo>
                <a:lnTo>
                  <a:pt x="1278" y="345"/>
                </a:lnTo>
                <a:lnTo>
                  <a:pt x="1290" y="345"/>
                </a:lnTo>
                <a:lnTo>
                  <a:pt x="1296" y="345"/>
                </a:lnTo>
                <a:lnTo>
                  <a:pt x="1307" y="345"/>
                </a:lnTo>
                <a:lnTo>
                  <a:pt x="1313" y="345"/>
                </a:lnTo>
                <a:lnTo>
                  <a:pt x="1325" y="345"/>
                </a:lnTo>
                <a:lnTo>
                  <a:pt x="1331" y="345"/>
                </a:lnTo>
                <a:lnTo>
                  <a:pt x="1336" y="350"/>
                </a:lnTo>
                <a:lnTo>
                  <a:pt x="1348" y="350"/>
                </a:lnTo>
                <a:lnTo>
                  <a:pt x="1354" y="350"/>
                </a:lnTo>
                <a:lnTo>
                  <a:pt x="1366" y="350"/>
                </a:lnTo>
                <a:lnTo>
                  <a:pt x="1371" y="350"/>
                </a:lnTo>
                <a:lnTo>
                  <a:pt x="1383" y="350"/>
                </a:lnTo>
                <a:lnTo>
                  <a:pt x="1389" y="350"/>
                </a:lnTo>
                <a:lnTo>
                  <a:pt x="1401" y="350"/>
                </a:lnTo>
                <a:lnTo>
                  <a:pt x="1406" y="350"/>
                </a:lnTo>
                <a:lnTo>
                  <a:pt x="1412" y="350"/>
                </a:lnTo>
                <a:lnTo>
                  <a:pt x="1424" y="350"/>
                </a:lnTo>
                <a:lnTo>
                  <a:pt x="1430" y="350"/>
                </a:lnTo>
                <a:lnTo>
                  <a:pt x="1441" y="355"/>
                </a:lnTo>
                <a:lnTo>
                  <a:pt x="1447" y="355"/>
                </a:lnTo>
                <a:lnTo>
                  <a:pt x="1459" y="355"/>
                </a:lnTo>
                <a:lnTo>
                  <a:pt x="1465" y="355"/>
                </a:lnTo>
                <a:lnTo>
                  <a:pt x="1477" y="355"/>
                </a:lnTo>
                <a:lnTo>
                  <a:pt x="1482" y="355"/>
                </a:lnTo>
                <a:lnTo>
                  <a:pt x="1488" y="355"/>
                </a:lnTo>
                <a:lnTo>
                  <a:pt x="1500" y="355"/>
                </a:lnTo>
                <a:lnTo>
                  <a:pt x="1506" y="355"/>
                </a:lnTo>
                <a:lnTo>
                  <a:pt x="1517" y="355"/>
                </a:lnTo>
                <a:lnTo>
                  <a:pt x="1523" y="355"/>
                </a:lnTo>
                <a:lnTo>
                  <a:pt x="1535" y="355"/>
                </a:lnTo>
                <a:lnTo>
                  <a:pt x="1541" y="355"/>
                </a:lnTo>
                <a:lnTo>
                  <a:pt x="1552" y="355"/>
                </a:lnTo>
                <a:lnTo>
                  <a:pt x="1558" y="355"/>
                </a:lnTo>
                <a:lnTo>
                  <a:pt x="1564" y="355"/>
                </a:lnTo>
                <a:lnTo>
                  <a:pt x="1576" y="355"/>
                </a:lnTo>
                <a:lnTo>
                  <a:pt x="1582" y="355"/>
                </a:lnTo>
                <a:lnTo>
                  <a:pt x="1593" y="355"/>
                </a:lnTo>
                <a:lnTo>
                  <a:pt x="1599" y="360"/>
                </a:lnTo>
                <a:lnTo>
                  <a:pt x="1611" y="331"/>
                </a:lnTo>
                <a:lnTo>
                  <a:pt x="1617" y="311"/>
                </a:lnTo>
                <a:lnTo>
                  <a:pt x="1628" y="301"/>
                </a:lnTo>
                <a:lnTo>
                  <a:pt x="1634" y="297"/>
                </a:lnTo>
                <a:lnTo>
                  <a:pt x="1640" y="287"/>
                </a:lnTo>
                <a:lnTo>
                  <a:pt x="1652" y="282"/>
                </a:lnTo>
                <a:lnTo>
                  <a:pt x="1657" y="277"/>
                </a:lnTo>
                <a:lnTo>
                  <a:pt x="1669" y="272"/>
                </a:lnTo>
                <a:lnTo>
                  <a:pt x="1675" y="267"/>
                </a:lnTo>
                <a:lnTo>
                  <a:pt x="1687" y="262"/>
                </a:lnTo>
                <a:lnTo>
                  <a:pt x="1692" y="262"/>
                </a:lnTo>
                <a:lnTo>
                  <a:pt x="1704" y="258"/>
                </a:lnTo>
                <a:lnTo>
                  <a:pt x="1710" y="253"/>
                </a:lnTo>
                <a:lnTo>
                  <a:pt x="1716" y="253"/>
                </a:lnTo>
                <a:lnTo>
                  <a:pt x="1727" y="248"/>
                </a:lnTo>
                <a:lnTo>
                  <a:pt x="1733" y="243"/>
                </a:lnTo>
                <a:lnTo>
                  <a:pt x="1745" y="243"/>
                </a:lnTo>
                <a:lnTo>
                  <a:pt x="1751" y="243"/>
                </a:lnTo>
                <a:lnTo>
                  <a:pt x="1762" y="238"/>
                </a:lnTo>
                <a:lnTo>
                  <a:pt x="1768" y="238"/>
                </a:lnTo>
                <a:lnTo>
                  <a:pt x="1780" y="233"/>
                </a:lnTo>
                <a:lnTo>
                  <a:pt x="1786" y="233"/>
                </a:lnTo>
                <a:lnTo>
                  <a:pt x="1792" y="233"/>
                </a:lnTo>
                <a:lnTo>
                  <a:pt x="1803" y="228"/>
                </a:lnTo>
                <a:lnTo>
                  <a:pt x="1809" y="228"/>
                </a:lnTo>
                <a:lnTo>
                  <a:pt x="1821" y="228"/>
                </a:lnTo>
                <a:lnTo>
                  <a:pt x="1827" y="228"/>
                </a:lnTo>
                <a:lnTo>
                  <a:pt x="1838" y="224"/>
                </a:lnTo>
                <a:lnTo>
                  <a:pt x="1844" y="224"/>
                </a:lnTo>
                <a:lnTo>
                  <a:pt x="1856" y="224"/>
                </a:lnTo>
                <a:lnTo>
                  <a:pt x="1862" y="224"/>
                </a:lnTo>
                <a:lnTo>
                  <a:pt x="1868" y="219"/>
                </a:lnTo>
                <a:lnTo>
                  <a:pt x="1879" y="219"/>
                </a:lnTo>
                <a:lnTo>
                  <a:pt x="1885" y="219"/>
                </a:lnTo>
                <a:lnTo>
                  <a:pt x="1897" y="219"/>
                </a:lnTo>
                <a:lnTo>
                  <a:pt x="1903" y="219"/>
                </a:lnTo>
                <a:lnTo>
                  <a:pt x="1914" y="219"/>
                </a:lnTo>
                <a:lnTo>
                  <a:pt x="1920" y="214"/>
                </a:lnTo>
                <a:lnTo>
                  <a:pt x="1932" y="214"/>
                </a:lnTo>
                <a:lnTo>
                  <a:pt x="1938" y="214"/>
                </a:lnTo>
                <a:lnTo>
                  <a:pt x="1943" y="214"/>
                </a:lnTo>
                <a:lnTo>
                  <a:pt x="1955" y="214"/>
                </a:lnTo>
                <a:lnTo>
                  <a:pt x="1961" y="214"/>
                </a:lnTo>
                <a:lnTo>
                  <a:pt x="1973" y="214"/>
                </a:lnTo>
                <a:lnTo>
                  <a:pt x="1978" y="209"/>
                </a:lnTo>
                <a:lnTo>
                  <a:pt x="1990" y="209"/>
                </a:lnTo>
                <a:lnTo>
                  <a:pt x="1996" y="209"/>
                </a:lnTo>
                <a:lnTo>
                  <a:pt x="2008" y="209"/>
                </a:lnTo>
                <a:lnTo>
                  <a:pt x="2013" y="209"/>
                </a:lnTo>
                <a:lnTo>
                  <a:pt x="2019" y="209"/>
                </a:lnTo>
                <a:lnTo>
                  <a:pt x="2031" y="209"/>
                </a:lnTo>
                <a:lnTo>
                  <a:pt x="2037" y="209"/>
                </a:lnTo>
                <a:lnTo>
                  <a:pt x="2048" y="209"/>
                </a:lnTo>
                <a:lnTo>
                  <a:pt x="2054" y="204"/>
                </a:lnTo>
                <a:lnTo>
                  <a:pt x="2066" y="204"/>
                </a:lnTo>
                <a:lnTo>
                  <a:pt x="2072" y="204"/>
                </a:lnTo>
                <a:lnTo>
                  <a:pt x="2083" y="204"/>
                </a:lnTo>
                <a:lnTo>
                  <a:pt x="2089" y="204"/>
                </a:lnTo>
                <a:lnTo>
                  <a:pt x="2095" y="204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476600" y="4219560"/>
            <a:ext cx="3316320" cy="507960"/>
          </a:xfrm>
          <a:custGeom>
            <a:avLst/>
            <a:gdLst/>
            <a:ahLst/>
            <a:rect l="l" t="t" r="r" b="b"/>
            <a:pathLst>
              <a:path w="2089" h="320">
                <a:moveTo>
                  <a:pt x="0" y="320"/>
                </a:moveTo>
                <a:lnTo>
                  <a:pt x="6" y="291"/>
                </a:lnTo>
                <a:lnTo>
                  <a:pt x="18" y="276"/>
                </a:lnTo>
                <a:lnTo>
                  <a:pt x="23" y="267"/>
                </a:lnTo>
                <a:lnTo>
                  <a:pt x="35" y="257"/>
                </a:lnTo>
                <a:lnTo>
                  <a:pt x="41" y="252"/>
                </a:lnTo>
                <a:lnTo>
                  <a:pt x="53" y="242"/>
                </a:lnTo>
                <a:lnTo>
                  <a:pt x="58" y="238"/>
                </a:lnTo>
                <a:lnTo>
                  <a:pt x="70" y="233"/>
                </a:lnTo>
                <a:lnTo>
                  <a:pt x="76" y="228"/>
                </a:lnTo>
                <a:lnTo>
                  <a:pt x="82" y="223"/>
                </a:lnTo>
                <a:lnTo>
                  <a:pt x="93" y="194"/>
                </a:lnTo>
                <a:lnTo>
                  <a:pt x="99" y="179"/>
                </a:lnTo>
                <a:lnTo>
                  <a:pt x="111" y="170"/>
                </a:lnTo>
                <a:lnTo>
                  <a:pt x="117" y="160"/>
                </a:lnTo>
                <a:lnTo>
                  <a:pt x="128" y="150"/>
                </a:lnTo>
                <a:lnTo>
                  <a:pt x="134" y="141"/>
                </a:lnTo>
                <a:lnTo>
                  <a:pt x="146" y="136"/>
                </a:lnTo>
                <a:lnTo>
                  <a:pt x="152" y="126"/>
                </a:lnTo>
                <a:lnTo>
                  <a:pt x="158" y="121"/>
                </a:lnTo>
                <a:lnTo>
                  <a:pt x="169" y="116"/>
                </a:lnTo>
                <a:lnTo>
                  <a:pt x="175" y="87"/>
                </a:lnTo>
                <a:lnTo>
                  <a:pt x="187" y="73"/>
                </a:lnTo>
                <a:lnTo>
                  <a:pt x="193" y="58"/>
                </a:lnTo>
                <a:lnTo>
                  <a:pt x="204" y="48"/>
                </a:lnTo>
                <a:lnTo>
                  <a:pt x="210" y="39"/>
                </a:lnTo>
                <a:lnTo>
                  <a:pt x="222" y="29"/>
                </a:lnTo>
                <a:lnTo>
                  <a:pt x="228" y="24"/>
                </a:lnTo>
                <a:lnTo>
                  <a:pt x="233" y="15"/>
                </a:lnTo>
                <a:lnTo>
                  <a:pt x="245" y="5"/>
                </a:lnTo>
                <a:lnTo>
                  <a:pt x="251" y="0"/>
                </a:lnTo>
                <a:lnTo>
                  <a:pt x="263" y="29"/>
                </a:lnTo>
                <a:lnTo>
                  <a:pt x="268" y="39"/>
                </a:lnTo>
                <a:lnTo>
                  <a:pt x="280" y="39"/>
                </a:lnTo>
                <a:lnTo>
                  <a:pt x="286" y="44"/>
                </a:lnTo>
                <a:lnTo>
                  <a:pt x="298" y="48"/>
                </a:lnTo>
                <a:lnTo>
                  <a:pt x="303" y="48"/>
                </a:lnTo>
                <a:lnTo>
                  <a:pt x="309" y="53"/>
                </a:lnTo>
                <a:lnTo>
                  <a:pt x="321" y="53"/>
                </a:lnTo>
                <a:lnTo>
                  <a:pt x="327" y="53"/>
                </a:lnTo>
                <a:lnTo>
                  <a:pt x="338" y="58"/>
                </a:lnTo>
                <a:lnTo>
                  <a:pt x="344" y="58"/>
                </a:lnTo>
                <a:lnTo>
                  <a:pt x="356" y="63"/>
                </a:lnTo>
                <a:lnTo>
                  <a:pt x="362" y="63"/>
                </a:lnTo>
                <a:lnTo>
                  <a:pt x="374" y="63"/>
                </a:lnTo>
                <a:lnTo>
                  <a:pt x="379" y="63"/>
                </a:lnTo>
                <a:lnTo>
                  <a:pt x="385" y="68"/>
                </a:lnTo>
                <a:lnTo>
                  <a:pt x="397" y="68"/>
                </a:lnTo>
                <a:lnTo>
                  <a:pt x="403" y="68"/>
                </a:lnTo>
                <a:lnTo>
                  <a:pt x="414" y="68"/>
                </a:lnTo>
                <a:lnTo>
                  <a:pt x="420" y="68"/>
                </a:lnTo>
                <a:lnTo>
                  <a:pt x="432" y="92"/>
                </a:lnTo>
                <a:lnTo>
                  <a:pt x="438" y="107"/>
                </a:lnTo>
                <a:lnTo>
                  <a:pt x="444" y="116"/>
                </a:lnTo>
                <a:lnTo>
                  <a:pt x="455" y="121"/>
                </a:lnTo>
                <a:lnTo>
                  <a:pt x="461" y="126"/>
                </a:lnTo>
                <a:lnTo>
                  <a:pt x="473" y="131"/>
                </a:lnTo>
                <a:lnTo>
                  <a:pt x="479" y="136"/>
                </a:lnTo>
                <a:lnTo>
                  <a:pt x="490" y="141"/>
                </a:lnTo>
                <a:lnTo>
                  <a:pt x="496" y="145"/>
                </a:lnTo>
                <a:lnTo>
                  <a:pt x="508" y="150"/>
                </a:lnTo>
                <a:lnTo>
                  <a:pt x="514" y="116"/>
                </a:lnTo>
                <a:lnTo>
                  <a:pt x="519" y="107"/>
                </a:lnTo>
                <a:lnTo>
                  <a:pt x="531" y="97"/>
                </a:lnTo>
                <a:lnTo>
                  <a:pt x="537" y="92"/>
                </a:lnTo>
                <a:lnTo>
                  <a:pt x="549" y="87"/>
                </a:lnTo>
                <a:lnTo>
                  <a:pt x="554" y="78"/>
                </a:lnTo>
                <a:lnTo>
                  <a:pt x="566" y="73"/>
                </a:lnTo>
                <a:lnTo>
                  <a:pt x="572" y="73"/>
                </a:lnTo>
                <a:lnTo>
                  <a:pt x="584" y="68"/>
                </a:lnTo>
                <a:lnTo>
                  <a:pt x="589" y="63"/>
                </a:lnTo>
                <a:lnTo>
                  <a:pt x="595" y="53"/>
                </a:lnTo>
                <a:lnTo>
                  <a:pt x="607" y="44"/>
                </a:lnTo>
                <a:lnTo>
                  <a:pt x="613" y="39"/>
                </a:lnTo>
                <a:lnTo>
                  <a:pt x="624" y="34"/>
                </a:lnTo>
                <a:lnTo>
                  <a:pt x="630" y="29"/>
                </a:lnTo>
                <a:lnTo>
                  <a:pt x="642" y="29"/>
                </a:lnTo>
                <a:lnTo>
                  <a:pt x="648" y="24"/>
                </a:lnTo>
                <a:lnTo>
                  <a:pt x="659" y="19"/>
                </a:lnTo>
                <a:lnTo>
                  <a:pt x="665" y="15"/>
                </a:lnTo>
                <a:lnTo>
                  <a:pt x="671" y="15"/>
                </a:lnTo>
                <a:lnTo>
                  <a:pt x="683" y="34"/>
                </a:lnTo>
                <a:lnTo>
                  <a:pt x="689" y="39"/>
                </a:lnTo>
                <a:lnTo>
                  <a:pt x="700" y="44"/>
                </a:lnTo>
                <a:lnTo>
                  <a:pt x="706" y="48"/>
                </a:lnTo>
                <a:lnTo>
                  <a:pt x="718" y="48"/>
                </a:lnTo>
                <a:lnTo>
                  <a:pt x="724" y="53"/>
                </a:lnTo>
                <a:lnTo>
                  <a:pt x="735" y="53"/>
                </a:lnTo>
                <a:lnTo>
                  <a:pt x="741" y="58"/>
                </a:lnTo>
                <a:lnTo>
                  <a:pt x="747" y="58"/>
                </a:lnTo>
                <a:lnTo>
                  <a:pt x="759" y="63"/>
                </a:lnTo>
                <a:lnTo>
                  <a:pt x="765" y="97"/>
                </a:lnTo>
                <a:lnTo>
                  <a:pt x="776" y="116"/>
                </a:lnTo>
                <a:lnTo>
                  <a:pt x="782" y="131"/>
                </a:lnTo>
                <a:lnTo>
                  <a:pt x="794" y="145"/>
                </a:lnTo>
                <a:lnTo>
                  <a:pt x="800" y="150"/>
                </a:lnTo>
                <a:lnTo>
                  <a:pt x="811" y="160"/>
                </a:lnTo>
                <a:lnTo>
                  <a:pt x="817" y="170"/>
                </a:lnTo>
                <a:lnTo>
                  <a:pt x="823" y="175"/>
                </a:lnTo>
                <a:lnTo>
                  <a:pt x="835" y="184"/>
                </a:lnTo>
                <a:lnTo>
                  <a:pt x="840" y="189"/>
                </a:lnTo>
                <a:lnTo>
                  <a:pt x="852" y="194"/>
                </a:lnTo>
                <a:lnTo>
                  <a:pt x="858" y="199"/>
                </a:lnTo>
                <a:lnTo>
                  <a:pt x="870" y="204"/>
                </a:lnTo>
                <a:lnTo>
                  <a:pt x="875" y="208"/>
                </a:lnTo>
                <a:lnTo>
                  <a:pt x="887" y="213"/>
                </a:lnTo>
                <a:lnTo>
                  <a:pt x="893" y="218"/>
                </a:lnTo>
                <a:lnTo>
                  <a:pt x="899" y="218"/>
                </a:lnTo>
                <a:lnTo>
                  <a:pt x="910" y="223"/>
                </a:lnTo>
                <a:lnTo>
                  <a:pt x="916" y="228"/>
                </a:lnTo>
                <a:lnTo>
                  <a:pt x="928" y="228"/>
                </a:lnTo>
                <a:lnTo>
                  <a:pt x="934" y="233"/>
                </a:lnTo>
                <a:lnTo>
                  <a:pt x="945" y="233"/>
                </a:lnTo>
                <a:lnTo>
                  <a:pt x="951" y="238"/>
                </a:lnTo>
                <a:lnTo>
                  <a:pt x="963" y="238"/>
                </a:lnTo>
                <a:lnTo>
                  <a:pt x="969" y="242"/>
                </a:lnTo>
                <a:lnTo>
                  <a:pt x="975" y="242"/>
                </a:lnTo>
                <a:lnTo>
                  <a:pt x="986" y="247"/>
                </a:lnTo>
                <a:lnTo>
                  <a:pt x="992" y="247"/>
                </a:lnTo>
                <a:lnTo>
                  <a:pt x="1004" y="247"/>
                </a:lnTo>
                <a:lnTo>
                  <a:pt x="1010" y="252"/>
                </a:lnTo>
                <a:lnTo>
                  <a:pt x="1021" y="252"/>
                </a:lnTo>
                <a:lnTo>
                  <a:pt x="1027" y="252"/>
                </a:lnTo>
                <a:lnTo>
                  <a:pt x="1039" y="257"/>
                </a:lnTo>
                <a:lnTo>
                  <a:pt x="1045" y="257"/>
                </a:lnTo>
                <a:lnTo>
                  <a:pt x="1050" y="257"/>
                </a:lnTo>
                <a:lnTo>
                  <a:pt x="1062" y="262"/>
                </a:lnTo>
                <a:lnTo>
                  <a:pt x="1068" y="262"/>
                </a:lnTo>
                <a:lnTo>
                  <a:pt x="1080" y="262"/>
                </a:lnTo>
                <a:lnTo>
                  <a:pt x="1086" y="262"/>
                </a:lnTo>
                <a:lnTo>
                  <a:pt x="1097" y="262"/>
                </a:lnTo>
                <a:lnTo>
                  <a:pt x="1103" y="267"/>
                </a:lnTo>
                <a:lnTo>
                  <a:pt x="1115" y="267"/>
                </a:lnTo>
                <a:lnTo>
                  <a:pt x="1121" y="267"/>
                </a:lnTo>
                <a:lnTo>
                  <a:pt x="1126" y="267"/>
                </a:lnTo>
                <a:lnTo>
                  <a:pt x="1138" y="267"/>
                </a:lnTo>
                <a:lnTo>
                  <a:pt x="1144" y="272"/>
                </a:lnTo>
                <a:lnTo>
                  <a:pt x="1156" y="272"/>
                </a:lnTo>
                <a:lnTo>
                  <a:pt x="1161" y="272"/>
                </a:lnTo>
                <a:lnTo>
                  <a:pt x="1173" y="272"/>
                </a:lnTo>
                <a:lnTo>
                  <a:pt x="1179" y="272"/>
                </a:lnTo>
                <a:lnTo>
                  <a:pt x="1191" y="272"/>
                </a:lnTo>
                <a:lnTo>
                  <a:pt x="1196" y="276"/>
                </a:lnTo>
                <a:lnTo>
                  <a:pt x="1202" y="276"/>
                </a:lnTo>
                <a:lnTo>
                  <a:pt x="1214" y="276"/>
                </a:lnTo>
                <a:lnTo>
                  <a:pt x="1220" y="276"/>
                </a:lnTo>
                <a:lnTo>
                  <a:pt x="1231" y="276"/>
                </a:lnTo>
                <a:lnTo>
                  <a:pt x="1237" y="276"/>
                </a:lnTo>
                <a:lnTo>
                  <a:pt x="1249" y="276"/>
                </a:lnTo>
                <a:lnTo>
                  <a:pt x="1255" y="281"/>
                </a:lnTo>
                <a:lnTo>
                  <a:pt x="1266" y="281"/>
                </a:lnTo>
                <a:lnTo>
                  <a:pt x="1272" y="281"/>
                </a:lnTo>
                <a:lnTo>
                  <a:pt x="1278" y="281"/>
                </a:lnTo>
                <a:lnTo>
                  <a:pt x="1290" y="281"/>
                </a:lnTo>
                <a:lnTo>
                  <a:pt x="1296" y="281"/>
                </a:lnTo>
                <a:lnTo>
                  <a:pt x="1307" y="281"/>
                </a:lnTo>
                <a:lnTo>
                  <a:pt x="1313" y="281"/>
                </a:lnTo>
                <a:lnTo>
                  <a:pt x="1325" y="281"/>
                </a:lnTo>
                <a:lnTo>
                  <a:pt x="1331" y="281"/>
                </a:lnTo>
                <a:lnTo>
                  <a:pt x="1336" y="286"/>
                </a:lnTo>
                <a:lnTo>
                  <a:pt x="1348" y="286"/>
                </a:lnTo>
                <a:lnTo>
                  <a:pt x="1354" y="286"/>
                </a:lnTo>
                <a:lnTo>
                  <a:pt x="1366" y="286"/>
                </a:lnTo>
                <a:lnTo>
                  <a:pt x="1371" y="286"/>
                </a:lnTo>
                <a:lnTo>
                  <a:pt x="1383" y="286"/>
                </a:lnTo>
                <a:lnTo>
                  <a:pt x="1389" y="286"/>
                </a:lnTo>
                <a:lnTo>
                  <a:pt x="1401" y="286"/>
                </a:lnTo>
                <a:lnTo>
                  <a:pt x="1406" y="286"/>
                </a:lnTo>
                <a:lnTo>
                  <a:pt x="1412" y="286"/>
                </a:lnTo>
                <a:lnTo>
                  <a:pt x="1424" y="286"/>
                </a:lnTo>
                <a:lnTo>
                  <a:pt x="1430" y="286"/>
                </a:lnTo>
                <a:lnTo>
                  <a:pt x="1441" y="286"/>
                </a:lnTo>
                <a:lnTo>
                  <a:pt x="1447" y="291"/>
                </a:lnTo>
                <a:lnTo>
                  <a:pt x="1459" y="291"/>
                </a:lnTo>
                <a:lnTo>
                  <a:pt x="1465" y="291"/>
                </a:lnTo>
                <a:lnTo>
                  <a:pt x="1477" y="291"/>
                </a:lnTo>
                <a:lnTo>
                  <a:pt x="1482" y="291"/>
                </a:lnTo>
                <a:lnTo>
                  <a:pt x="1488" y="291"/>
                </a:lnTo>
                <a:lnTo>
                  <a:pt x="1500" y="291"/>
                </a:lnTo>
                <a:lnTo>
                  <a:pt x="1506" y="291"/>
                </a:lnTo>
                <a:lnTo>
                  <a:pt x="1517" y="291"/>
                </a:lnTo>
                <a:lnTo>
                  <a:pt x="1523" y="291"/>
                </a:lnTo>
                <a:lnTo>
                  <a:pt x="1535" y="291"/>
                </a:lnTo>
                <a:lnTo>
                  <a:pt x="1541" y="291"/>
                </a:lnTo>
                <a:lnTo>
                  <a:pt x="1552" y="291"/>
                </a:lnTo>
                <a:lnTo>
                  <a:pt x="1558" y="291"/>
                </a:lnTo>
                <a:lnTo>
                  <a:pt x="1564" y="291"/>
                </a:lnTo>
                <a:lnTo>
                  <a:pt x="1576" y="291"/>
                </a:lnTo>
                <a:lnTo>
                  <a:pt x="1582" y="291"/>
                </a:lnTo>
                <a:lnTo>
                  <a:pt x="1593" y="291"/>
                </a:lnTo>
                <a:lnTo>
                  <a:pt x="1599" y="296"/>
                </a:lnTo>
                <a:lnTo>
                  <a:pt x="1611" y="267"/>
                </a:lnTo>
                <a:lnTo>
                  <a:pt x="1617" y="247"/>
                </a:lnTo>
                <a:lnTo>
                  <a:pt x="1628" y="238"/>
                </a:lnTo>
                <a:lnTo>
                  <a:pt x="1634" y="233"/>
                </a:lnTo>
                <a:lnTo>
                  <a:pt x="1640" y="223"/>
                </a:lnTo>
                <a:lnTo>
                  <a:pt x="1652" y="218"/>
                </a:lnTo>
                <a:lnTo>
                  <a:pt x="1657" y="213"/>
                </a:lnTo>
                <a:lnTo>
                  <a:pt x="1669" y="208"/>
                </a:lnTo>
                <a:lnTo>
                  <a:pt x="1675" y="204"/>
                </a:lnTo>
                <a:lnTo>
                  <a:pt x="1687" y="199"/>
                </a:lnTo>
                <a:lnTo>
                  <a:pt x="1692" y="199"/>
                </a:lnTo>
                <a:lnTo>
                  <a:pt x="1704" y="194"/>
                </a:lnTo>
                <a:lnTo>
                  <a:pt x="1710" y="189"/>
                </a:lnTo>
                <a:lnTo>
                  <a:pt x="1716" y="189"/>
                </a:lnTo>
                <a:lnTo>
                  <a:pt x="1727" y="184"/>
                </a:lnTo>
                <a:lnTo>
                  <a:pt x="1733" y="179"/>
                </a:lnTo>
                <a:lnTo>
                  <a:pt x="1745" y="179"/>
                </a:lnTo>
                <a:lnTo>
                  <a:pt x="1751" y="179"/>
                </a:lnTo>
                <a:lnTo>
                  <a:pt x="1762" y="175"/>
                </a:lnTo>
                <a:lnTo>
                  <a:pt x="1768" y="175"/>
                </a:lnTo>
                <a:lnTo>
                  <a:pt x="1780" y="170"/>
                </a:lnTo>
                <a:lnTo>
                  <a:pt x="1786" y="170"/>
                </a:lnTo>
                <a:lnTo>
                  <a:pt x="1792" y="170"/>
                </a:lnTo>
                <a:lnTo>
                  <a:pt x="1803" y="165"/>
                </a:lnTo>
                <a:lnTo>
                  <a:pt x="1809" y="165"/>
                </a:lnTo>
                <a:lnTo>
                  <a:pt x="1821" y="165"/>
                </a:lnTo>
                <a:lnTo>
                  <a:pt x="1827" y="160"/>
                </a:lnTo>
                <a:lnTo>
                  <a:pt x="1838" y="160"/>
                </a:lnTo>
                <a:lnTo>
                  <a:pt x="1844" y="160"/>
                </a:lnTo>
                <a:lnTo>
                  <a:pt x="1856" y="160"/>
                </a:lnTo>
                <a:lnTo>
                  <a:pt x="1862" y="160"/>
                </a:lnTo>
                <a:lnTo>
                  <a:pt x="1868" y="155"/>
                </a:lnTo>
                <a:lnTo>
                  <a:pt x="1879" y="155"/>
                </a:lnTo>
                <a:lnTo>
                  <a:pt x="1885" y="155"/>
                </a:lnTo>
                <a:lnTo>
                  <a:pt x="1897" y="155"/>
                </a:lnTo>
                <a:lnTo>
                  <a:pt x="1903" y="155"/>
                </a:lnTo>
                <a:lnTo>
                  <a:pt x="1914" y="155"/>
                </a:lnTo>
                <a:lnTo>
                  <a:pt x="1920" y="150"/>
                </a:lnTo>
                <a:lnTo>
                  <a:pt x="1932" y="150"/>
                </a:lnTo>
                <a:lnTo>
                  <a:pt x="1938" y="150"/>
                </a:lnTo>
                <a:lnTo>
                  <a:pt x="1943" y="150"/>
                </a:lnTo>
                <a:lnTo>
                  <a:pt x="1955" y="150"/>
                </a:lnTo>
                <a:lnTo>
                  <a:pt x="1961" y="150"/>
                </a:lnTo>
                <a:lnTo>
                  <a:pt x="1973" y="150"/>
                </a:lnTo>
                <a:lnTo>
                  <a:pt x="1978" y="145"/>
                </a:lnTo>
                <a:lnTo>
                  <a:pt x="1990" y="145"/>
                </a:lnTo>
                <a:lnTo>
                  <a:pt x="1996" y="145"/>
                </a:lnTo>
                <a:lnTo>
                  <a:pt x="2008" y="145"/>
                </a:lnTo>
                <a:lnTo>
                  <a:pt x="2013" y="145"/>
                </a:lnTo>
                <a:lnTo>
                  <a:pt x="2019" y="145"/>
                </a:lnTo>
                <a:lnTo>
                  <a:pt x="2031" y="145"/>
                </a:lnTo>
                <a:lnTo>
                  <a:pt x="2037" y="145"/>
                </a:lnTo>
                <a:lnTo>
                  <a:pt x="2048" y="145"/>
                </a:lnTo>
                <a:lnTo>
                  <a:pt x="2054" y="141"/>
                </a:lnTo>
                <a:lnTo>
                  <a:pt x="2066" y="141"/>
                </a:lnTo>
                <a:lnTo>
                  <a:pt x="2072" y="141"/>
                </a:lnTo>
                <a:lnTo>
                  <a:pt x="2083" y="141"/>
                </a:lnTo>
                <a:lnTo>
                  <a:pt x="2089" y="141"/>
                </a:ln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3983040" y="5003640"/>
            <a:ext cx="4624200" cy="1139760"/>
            <a:chOff x="3983040" y="5003640"/>
            <a:chExt cx="4624200" cy="1139760"/>
          </a:xfrm>
        </p:grpSpPr>
        <p:sp>
          <p:nvSpPr>
            <p:cNvPr id="1220" name=""/>
            <p:cNvSpPr/>
            <p:nvPr/>
          </p:nvSpPr>
          <p:spPr>
            <a:xfrm>
              <a:off x="4475160" y="5138640"/>
              <a:ext cx="4011480" cy="76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475160" y="577836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75160" y="56480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75160" y="552456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75160" y="53942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75160" y="527040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75160" y="513864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6036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74336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733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1156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418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27976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100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404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6782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086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482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768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164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3468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846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150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7453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832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135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1532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2817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2140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5517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8024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8199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94988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81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21844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35632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8486640" y="5138640"/>
              <a:ext cx="0" cy="76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75160" y="5138640"/>
              <a:ext cx="4011480" cy="763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475160" y="5138640"/>
              <a:ext cx="17280" cy="763560"/>
            </a:xfrm>
            <a:custGeom>
              <a:avLst/>
              <a:gdLst/>
              <a:ahLst/>
              <a:rect l="l" t="t" r="r" b="b"/>
              <a:pathLst>
                <a:path w="2" h="99">
                  <a:moveTo>
                    <a:pt x="0" y="0"/>
                  </a:moveTo>
                  <a:lnTo>
                    <a:pt x="0" y="99"/>
                  </a:lnTo>
                  <a:lnTo>
                    <a:pt x="2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75160" y="58784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75160" y="58482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75160" y="58244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475160" y="5802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75160" y="5778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75160" y="57481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475160" y="5724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75160" y="57020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75160" y="56703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75160" y="56480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75160" y="56242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75160" y="5594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75160" y="55702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75160" y="55483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75160" y="55245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75160" y="54943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75160" y="54705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75160" y="54482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75160" y="541656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75160" y="53942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75160" y="53704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75160" y="53402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75160" y="531648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75160" y="52927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475160" y="5270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475160" y="523872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75160" y="5216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475160" y="51926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475160" y="516240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75160" y="5138640"/>
              <a:ext cx="17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46360" y="590220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446360" y="577836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446360" y="56480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446360" y="552456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46360" y="53942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446360" y="527040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446360" y="5138640"/>
              <a:ext cx="28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475160" y="5902200"/>
              <a:ext cx="4011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447516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46036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474336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48733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501156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51418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527976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54100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55404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6782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58086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59482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60768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2164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63468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4846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66150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67453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68832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70135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71532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72817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742140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5517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768024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8199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794988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80881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821844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835632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8486640" y="5886360"/>
              <a:ext cx="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47516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514188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80860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48468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715320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781992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8486640" y="5902200"/>
              <a:ext cx="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373280" y="5848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96960" y="572436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373280" y="5594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296960" y="547056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373280" y="53402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96960" y="521640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373280" y="50846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474800" y="59720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90760" y="59720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779440" y="59720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35360" y="59720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24040" y="59720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768800" y="5972040"/>
              <a:ext cx="156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457840" y="5972040"/>
              <a:ext cx="11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.3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00840" y="6006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Time (Se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6200000">
              <a:off x="3740400" y="5469480"/>
              <a:ext cx="86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(C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83040" y="5003640"/>
              <a:ext cx="4624200" cy="1139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486320" y="5246640"/>
            <a:ext cx="3354480" cy="647640"/>
          </a:xfrm>
          <a:custGeom>
            <a:avLst/>
            <a:gdLst/>
            <a:ahLst/>
            <a:rect l="l" t="t" r="r" b="b"/>
            <a:pathLst>
              <a:path w="2113" h="408">
                <a:moveTo>
                  <a:pt x="0" y="408"/>
                </a:moveTo>
                <a:lnTo>
                  <a:pt x="6" y="379"/>
                </a:lnTo>
                <a:lnTo>
                  <a:pt x="18" y="364"/>
                </a:lnTo>
                <a:lnTo>
                  <a:pt x="23" y="355"/>
                </a:lnTo>
                <a:lnTo>
                  <a:pt x="35" y="345"/>
                </a:lnTo>
                <a:lnTo>
                  <a:pt x="41" y="340"/>
                </a:lnTo>
                <a:lnTo>
                  <a:pt x="53" y="330"/>
                </a:lnTo>
                <a:lnTo>
                  <a:pt x="58" y="325"/>
                </a:lnTo>
                <a:lnTo>
                  <a:pt x="70" y="321"/>
                </a:lnTo>
                <a:lnTo>
                  <a:pt x="76" y="316"/>
                </a:lnTo>
                <a:lnTo>
                  <a:pt x="82" y="311"/>
                </a:lnTo>
                <a:lnTo>
                  <a:pt x="93" y="296"/>
                </a:lnTo>
                <a:lnTo>
                  <a:pt x="99" y="287"/>
                </a:lnTo>
                <a:lnTo>
                  <a:pt x="111" y="282"/>
                </a:lnTo>
                <a:lnTo>
                  <a:pt x="117" y="272"/>
                </a:lnTo>
                <a:lnTo>
                  <a:pt x="128" y="267"/>
                </a:lnTo>
                <a:lnTo>
                  <a:pt x="134" y="262"/>
                </a:lnTo>
                <a:lnTo>
                  <a:pt x="146" y="257"/>
                </a:lnTo>
                <a:lnTo>
                  <a:pt x="152" y="253"/>
                </a:lnTo>
                <a:lnTo>
                  <a:pt x="158" y="248"/>
                </a:lnTo>
                <a:lnTo>
                  <a:pt x="169" y="248"/>
                </a:lnTo>
                <a:lnTo>
                  <a:pt x="175" y="223"/>
                </a:lnTo>
                <a:lnTo>
                  <a:pt x="187" y="209"/>
                </a:lnTo>
                <a:lnTo>
                  <a:pt x="193" y="199"/>
                </a:lnTo>
                <a:lnTo>
                  <a:pt x="204" y="189"/>
                </a:lnTo>
                <a:lnTo>
                  <a:pt x="210" y="180"/>
                </a:lnTo>
                <a:lnTo>
                  <a:pt x="222" y="175"/>
                </a:lnTo>
                <a:lnTo>
                  <a:pt x="228" y="170"/>
                </a:lnTo>
                <a:lnTo>
                  <a:pt x="233" y="160"/>
                </a:lnTo>
                <a:lnTo>
                  <a:pt x="245" y="155"/>
                </a:lnTo>
                <a:lnTo>
                  <a:pt x="251" y="151"/>
                </a:lnTo>
                <a:lnTo>
                  <a:pt x="263" y="160"/>
                </a:lnTo>
                <a:lnTo>
                  <a:pt x="268" y="165"/>
                </a:lnTo>
                <a:lnTo>
                  <a:pt x="280" y="165"/>
                </a:lnTo>
                <a:lnTo>
                  <a:pt x="286" y="165"/>
                </a:lnTo>
                <a:lnTo>
                  <a:pt x="298" y="165"/>
                </a:lnTo>
                <a:lnTo>
                  <a:pt x="303" y="165"/>
                </a:lnTo>
                <a:lnTo>
                  <a:pt x="309" y="165"/>
                </a:lnTo>
                <a:lnTo>
                  <a:pt x="321" y="165"/>
                </a:lnTo>
                <a:lnTo>
                  <a:pt x="327" y="160"/>
                </a:lnTo>
                <a:lnTo>
                  <a:pt x="338" y="160"/>
                </a:lnTo>
                <a:lnTo>
                  <a:pt x="344" y="155"/>
                </a:lnTo>
                <a:lnTo>
                  <a:pt x="356" y="155"/>
                </a:lnTo>
                <a:lnTo>
                  <a:pt x="362" y="151"/>
                </a:lnTo>
                <a:lnTo>
                  <a:pt x="374" y="151"/>
                </a:lnTo>
                <a:lnTo>
                  <a:pt x="379" y="146"/>
                </a:lnTo>
                <a:lnTo>
                  <a:pt x="385" y="146"/>
                </a:lnTo>
                <a:lnTo>
                  <a:pt x="397" y="146"/>
                </a:lnTo>
                <a:lnTo>
                  <a:pt x="403" y="141"/>
                </a:lnTo>
                <a:lnTo>
                  <a:pt x="414" y="141"/>
                </a:lnTo>
                <a:lnTo>
                  <a:pt x="420" y="136"/>
                </a:lnTo>
                <a:lnTo>
                  <a:pt x="432" y="151"/>
                </a:lnTo>
                <a:lnTo>
                  <a:pt x="438" y="160"/>
                </a:lnTo>
                <a:lnTo>
                  <a:pt x="444" y="170"/>
                </a:lnTo>
                <a:lnTo>
                  <a:pt x="455" y="170"/>
                </a:lnTo>
                <a:lnTo>
                  <a:pt x="461" y="175"/>
                </a:lnTo>
                <a:lnTo>
                  <a:pt x="473" y="175"/>
                </a:lnTo>
                <a:lnTo>
                  <a:pt x="479" y="175"/>
                </a:lnTo>
                <a:lnTo>
                  <a:pt x="490" y="180"/>
                </a:lnTo>
                <a:lnTo>
                  <a:pt x="496" y="180"/>
                </a:lnTo>
                <a:lnTo>
                  <a:pt x="508" y="180"/>
                </a:lnTo>
                <a:lnTo>
                  <a:pt x="514" y="151"/>
                </a:lnTo>
                <a:lnTo>
                  <a:pt x="519" y="141"/>
                </a:lnTo>
                <a:lnTo>
                  <a:pt x="531" y="136"/>
                </a:lnTo>
                <a:lnTo>
                  <a:pt x="537" y="126"/>
                </a:lnTo>
                <a:lnTo>
                  <a:pt x="549" y="121"/>
                </a:lnTo>
                <a:lnTo>
                  <a:pt x="554" y="117"/>
                </a:lnTo>
                <a:lnTo>
                  <a:pt x="566" y="112"/>
                </a:lnTo>
                <a:lnTo>
                  <a:pt x="572" y="107"/>
                </a:lnTo>
                <a:lnTo>
                  <a:pt x="584" y="102"/>
                </a:lnTo>
                <a:lnTo>
                  <a:pt x="589" y="97"/>
                </a:lnTo>
                <a:lnTo>
                  <a:pt x="595" y="78"/>
                </a:lnTo>
                <a:lnTo>
                  <a:pt x="607" y="73"/>
                </a:lnTo>
                <a:lnTo>
                  <a:pt x="613" y="63"/>
                </a:lnTo>
                <a:lnTo>
                  <a:pt x="624" y="58"/>
                </a:lnTo>
                <a:lnTo>
                  <a:pt x="630" y="53"/>
                </a:lnTo>
                <a:lnTo>
                  <a:pt x="642" y="49"/>
                </a:lnTo>
                <a:lnTo>
                  <a:pt x="648" y="44"/>
                </a:lnTo>
                <a:lnTo>
                  <a:pt x="659" y="39"/>
                </a:lnTo>
                <a:lnTo>
                  <a:pt x="665" y="34"/>
                </a:lnTo>
                <a:lnTo>
                  <a:pt x="671" y="29"/>
                </a:lnTo>
                <a:lnTo>
                  <a:pt x="683" y="24"/>
                </a:lnTo>
                <a:lnTo>
                  <a:pt x="689" y="24"/>
                </a:lnTo>
                <a:lnTo>
                  <a:pt x="700" y="24"/>
                </a:lnTo>
                <a:lnTo>
                  <a:pt x="706" y="19"/>
                </a:lnTo>
                <a:lnTo>
                  <a:pt x="718" y="15"/>
                </a:lnTo>
                <a:lnTo>
                  <a:pt x="724" y="15"/>
                </a:lnTo>
                <a:lnTo>
                  <a:pt x="735" y="10"/>
                </a:lnTo>
                <a:lnTo>
                  <a:pt x="741" y="10"/>
                </a:lnTo>
                <a:lnTo>
                  <a:pt x="747" y="5"/>
                </a:lnTo>
                <a:lnTo>
                  <a:pt x="759" y="0"/>
                </a:lnTo>
                <a:lnTo>
                  <a:pt x="765" y="78"/>
                </a:lnTo>
                <a:lnTo>
                  <a:pt x="776" y="97"/>
                </a:lnTo>
                <a:lnTo>
                  <a:pt x="782" y="112"/>
                </a:lnTo>
                <a:lnTo>
                  <a:pt x="794" y="131"/>
                </a:lnTo>
                <a:lnTo>
                  <a:pt x="800" y="141"/>
                </a:lnTo>
                <a:lnTo>
                  <a:pt x="811" y="155"/>
                </a:lnTo>
                <a:lnTo>
                  <a:pt x="817" y="165"/>
                </a:lnTo>
                <a:lnTo>
                  <a:pt x="823" y="180"/>
                </a:lnTo>
                <a:lnTo>
                  <a:pt x="835" y="189"/>
                </a:lnTo>
                <a:lnTo>
                  <a:pt x="840" y="199"/>
                </a:lnTo>
                <a:lnTo>
                  <a:pt x="852" y="204"/>
                </a:lnTo>
                <a:lnTo>
                  <a:pt x="858" y="214"/>
                </a:lnTo>
                <a:lnTo>
                  <a:pt x="870" y="223"/>
                </a:lnTo>
                <a:lnTo>
                  <a:pt x="875" y="228"/>
                </a:lnTo>
                <a:lnTo>
                  <a:pt x="887" y="233"/>
                </a:lnTo>
                <a:lnTo>
                  <a:pt x="893" y="243"/>
                </a:lnTo>
                <a:lnTo>
                  <a:pt x="899" y="248"/>
                </a:lnTo>
                <a:lnTo>
                  <a:pt x="910" y="253"/>
                </a:lnTo>
                <a:lnTo>
                  <a:pt x="916" y="257"/>
                </a:lnTo>
                <a:lnTo>
                  <a:pt x="928" y="262"/>
                </a:lnTo>
                <a:lnTo>
                  <a:pt x="934" y="267"/>
                </a:lnTo>
                <a:lnTo>
                  <a:pt x="945" y="272"/>
                </a:lnTo>
                <a:lnTo>
                  <a:pt x="951" y="277"/>
                </a:lnTo>
                <a:lnTo>
                  <a:pt x="963" y="277"/>
                </a:lnTo>
                <a:lnTo>
                  <a:pt x="969" y="282"/>
                </a:lnTo>
                <a:lnTo>
                  <a:pt x="975" y="287"/>
                </a:lnTo>
                <a:lnTo>
                  <a:pt x="986" y="291"/>
                </a:lnTo>
                <a:lnTo>
                  <a:pt x="992" y="291"/>
                </a:lnTo>
                <a:lnTo>
                  <a:pt x="1004" y="296"/>
                </a:lnTo>
                <a:lnTo>
                  <a:pt x="1010" y="296"/>
                </a:lnTo>
                <a:lnTo>
                  <a:pt x="1021" y="301"/>
                </a:lnTo>
                <a:lnTo>
                  <a:pt x="1027" y="306"/>
                </a:lnTo>
                <a:lnTo>
                  <a:pt x="1039" y="306"/>
                </a:lnTo>
                <a:lnTo>
                  <a:pt x="1045" y="311"/>
                </a:lnTo>
                <a:lnTo>
                  <a:pt x="1050" y="311"/>
                </a:lnTo>
                <a:lnTo>
                  <a:pt x="1062" y="316"/>
                </a:lnTo>
                <a:lnTo>
                  <a:pt x="1068" y="316"/>
                </a:lnTo>
                <a:lnTo>
                  <a:pt x="1080" y="316"/>
                </a:lnTo>
                <a:lnTo>
                  <a:pt x="1086" y="321"/>
                </a:lnTo>
                <a:lnTo>
                  <a:pt x="1097" y="321"/>
                </a:lnTo>
                <a:lnTo>
                  <a:pt x="1103" y="325"/>
                </a:lnTo>
                <a:lnTo>
                  <a:pt x="1115" y="325"/>
                </a:lnTo>
                <a:lnTo>
                  <a:pt x="1121" y="325"/>
                </a:lnTo>
                <a:lnTo>
                  <a:pt x="1126" y="330"/>
                </a:lnTo>
                <a:lnTo>
                  <a:pt x="1138" y="330"/>
                </a:lnTo>
                <a:lnTo>
                  <a:pt x="1144" y="330"/>
                </a:lnTo>
                <a:lnTo>
                  <a:pt x="1156" y="335"/>
                </a:lnTo>
                <a:lnTo>
                  <a:pt x="1161" y="335"/>
                </a:lnTo>
                <a:lnTo>
                  <a:pt x="1173" y="335"/>
                </a:lnTo>
                <a:lnTo>
                  <a:pt x="1179" y="340"/>
                </a:lnTo>
                <a:lnTo>
                  <a:pt x="1191" y="340"/>
                </a:lnTo>
                <a:lnTo>
                  <a:pt x="1196" y="340"/>
                </a:lnTo>
                <a:lnTo>
                  <a:pt x="1202" y="340"/>
                </a:lnTo>
                <a:lnTo>
                  <a:pt x="1214" y="345"/>
                </a:lnTo>
                <a:lnTo>
                  <a:pt x="1220" y="345"/>
                </a:lnTo>
                <a:lnTo>
                  <a:pt x="1231" y="345"/>
                </a:lnTo>
                <a:lnTo>
                  <a:pt x="1237" y="345"/>
                </a:lnTo>
                <a:lnTo>
                  <a:pt x="1249" y="345"/>
                </a:lnTo>
                <a:lnTo>
                  <a:pt x="1255" y="350"/>
                </a:lnTo>
                <a:lnTo>
                  <a:pt x="1266" y="350"/>
                </a:lnTo>
                <a:lnTo>
                  <a:pt x="1272" y="350"/>
                </a:lnTo>
                <a:lnTo>
                  <a:pt x="1278" y="350"/>
                </a:lnTo>
                <a:lnTo>
                  <a:pt x="1290" y="355"/>
                </a:lnTo>
                <a:lnTo>
                  <a:pt x="1296" y="355"/>
                </a:lnTo>
                <a:lnTo>
                  <a:pt x="1307" y="355"/>
                </a:lnTo>
                <a:lnTo>
                  <a:pt x="1313" y="355"/>
                </a:lnTo>
                <a:lnTo>
                  <a:pt x="1325" y="355"/>
                </a:lnTo>
                <a:lnTo>
                  <a:pt x="1331" y="355"/>
                </a:lnTo>
                <a:lnTo>
                  <a:pt x="1336" y="359"/>
                </a:lnTo>
                <a:lnTo>
                  <a:pt x="1348" y="359"/>
                </a:lnTo>
                <a:lnTo>
                  <a:pt x="1354" y="359"/>
                </a:lnTo>
                <a:lnTo>
                  <a:pt x="1366" y="359"/>
                </a:lnTo>
                <a:lnTo>
                  <a:pt x="1371" y="359"/>
                </a:lnTo>
                <a:lnTo>
                  <a:pt x="1383" y="359"/>
                </a:lnTo>
                <a:lnTo>
                  <a:pt x="1389" y="364"/>
                </a:lnTo>
                <a:lnTo>
                  <a:pt x="1401" y="364"/>
                </a:lnTo>
                <a:lnTo>
                  <a:pt x="1406" y="364"/>
                </a:lnTo>
                <a:lnTo>
                  <a:pt x="1412" y="364"/>
                </a:lnTo>
                <a:lnTo>
                  <a:pt x="1424" y="364"/>
                </a:lnTo>
                <a:lnTo>
                  <a:pt x="1430" y="364"/>
                </a:lnTo>
                <a:lnTo>
                  <a:pt x="1441" y="364"/>
                </a:lnTo>
                <a:lnTo>
                  <a:pt x="1447" y="364"/>
                </a:lnTo>
                <a:lnTo>
                  <a:pt x="1459" y="369"/>
                </a:lnTo>
                <a:lnTo>
                  <a:pt x="1465" y="369"/>
                </a:lnTo>
                <a:lnTo>
                  <a:pt x="1477" y="369"/>
                </a:lnTo>
                <a:lnTo>
                  <a:pt x="1482" y="369"/>
                </a:lnTo>
                <a:lnTo>
                  <a:pt x="1488" y="369"/>
                </a:lnTo>
                <a:lnTo>
                  <a:pt x="1500" y="369"/>
                </a:lnTo>
                <a:lnTo>
                  <a:pt x="1506" y="369"/>
                </a:lnTo>
                <a:lnTo>
                  <a:pt x="1517" y="369"/>
                </a:lnTo>
                <a:lnTo>
                  <a:pt x="1523" y="369"/>
                </a:lnTo>
                <a:lnTo>
                  <a:pt x="1535" y="369"/>
                </a:lnTo>
                <a:lnTo>
                  <a:pt x="1541" y="374"/>
                </a:lnTo>
                <a:lnTo>
                  <a:pt x="1552" y="374"/>
                </a:lnTo>
                <a:lnTo>
                  <a:pt x="1558" y="374"/>
                </a:lnTo>
                <a:lnTo>
                  <a:pt x="1564" y="374"/>
                </a:lnTo>
                <a:lnTo>
                  <a:pt x="1576" y="374"/>
                </a:lnTo>
                <a:lnTo>
                  <a:pt x="1582" y="374"/>
                </a:lnTo>
                <a:lnTo>
                  <a:pt x="1593" y="374"/>
                </a:lnTo>
                <a:lnTo>
                  <a:pt x="1599" y="374"/>
                </a:lnTo>
                <a:lnTo>
                  <a:pt x="1611" y="345"/>
                </a:lnTo>
                <a:lnTo>
                  <a:pt x="1617" y="330"/>
                </a:lnTo>
                <a:lnTo>
                  <a:pt x="1628" y="321"/>
                </a:lnTo>
                <a:lnTo>
                  <a:pt x="1634" y="311"/>
                </a:lnTo>
                <a:lnTo>
                  <a:pt x="1640" y="306"/>
                </a:lnTo>
                <a:lnTo>
                  <a:pt x="1652" y="301"/>
                </a:lnTo>
                <a:lnTo>
                  <a:pt x="1657" y="296"/>
                </a:lnTo>
                <a:lnTo>
                  <a:pt x="1669" y="291"/>
                </a:lnTo>
                <a:lnTo>
                  <a:pt x="1675" y="287"/>
                </a:lnTo>
                <a:lnTo>
                  <a:pt x="1687" y="282"/>
                </a:lnTo>
                <a:lnTo>
                  <a:pt x="1692" y="277"/>
                </a:lnTo>
                <a:lnTo>
                  <a:pt x="1704" y="277"/>
                </a:lnTo>
                <a:lnTo>
                  <a:pt x="1710" y="272"/>
                </a:lnTo>
                <a:lnTo>
                  <a:pt x="1716" y="272"/>
                </a:lnTo>
                <a:lnTo>
                  <a:pt x="1727" y="267"/>
                </a:lnTo>
                <a:lnTo>
                  <a:pt x="1733" y="267"/>
                </a:lnTo>
                <a:lnTo>
                  <a:pt x="1745" y="262"/>
                </a:lnTo>
                <a:lnTo>
                  <a:pt x="1751" y="262"/>
                </a:lnTo>
                <a:lnTo>
                  <a:pt x="1762" y="257"/>
                </a:lnTo>
                <a:lnTo>
                  <a:pt x="1768" y="257"/>
                </a:lnTo>
                <a:lnTo>
                  <a:pt x="1780" y="253"/>
                </a:lnTo>
                <a:lnTo>
                  <a:pt x="1786" y="253"/>
                </a:lnTo>
                <a:lnTo>
                  <a:pt x="1792" y="253"/>
                </a:lnTo>
                <a:lnTo>
                  <a:pt x="1803" y="253"/>
                </a:lnTo>
                <a:lnTo>
                  <a:pt x="1809" y="248"/>
                </a:lnTo>
                <a:lnTo>
                  <a:pt x="1821" y="248"/>
                </a:lnTo>
                <a:lnTo>
                  <a:pt x="1827" y="248"/>
                </a:lnTo>
                <a:lnTo>
                  <a:pt x="1838" y="248"/>
                </a:lnTo>
                <a:lnTo>
                  <a:pt x="1844" y="243"/>
                </a:lnTo>
                <a:lnTo>
                  <a:pt x="1856" y="243"/>
                </a:lnTo>
                <a:lnTo>
                  <a:pt x="1862" y="243"/>
                </a:lnTo>
                <a:lnTo>
                  <a:pt x="1868" y="243"/>
                </a:lnTo>
                <a:lnTo>
                  <a:pt x="1879" y="243"/>
                </a:lnTo>
                <a:lnTo>
                  <a:pt x="1885" y="238"/>
                </a:lnTo>
                <a:lnTo>
                  <a:pt x="1897" y="238"/>
                </a:lnTo>
                <a:lnTo>
                  <a:pt x="1903" y="238"/>
                </a:lnTo>
                <a:lnTo>
                  <a:pt x="1914" y="238"/>
                </a:lnTo>
                <a:lnTo>
                  <a:pt x="1920" y="238"/>
                </a:lnTo>
                <a:lnTo>
                  <a:pt x="1932" y="238"/>
                </a:lnTo>
                <a:lnTo>
                  <a:pt x="1938" y="238"/>
                </a:lnTo>
                <a:lnTo>
                  <a:pt x="1943" y="233"/>
                </a:lnTo>
                <a:lnTo>
                  <a:pt x="1955" y="233"/>
                </a:lnTo>
                <a:lnTo>
                  <a:pt x="1961" y="233"/>
                </a:lnTo>
                <a:lnTo>
                  <a:pt x="1973" y="233"/>
                </a:lnTo>
                <a:lnTo>
                  <a:pt x="1978" y="233"/>
                </a:lnTo>
                <a:lnTo>
                  <a:pt x="1990" y="233"/>
                </a:lnTo>
                <a:lnTo>
                  <a:pt x="1996" y="233"/>
                </a:lnTo>
                <a:lnTo>
                  <a:pt x="2008" y="233"/>
                </a:lnTo>
                <a:lnTo>
                  <a:pt x="2013" y="233"/>
                </a:lnTo>
                <a:lnTo>
                  <a:pt x="2019" y="228"/>
                </a:lnTo>
                <a:lnTo>
                  <a:pt x="2031" y="228"/>
                </a:lnTo>
                <a:lnTo>
                  <a:pt x="2037" y="228"/>
                </a:lnTo>
                <a:lnTo>
                  <a:pt x="2048" y="228"/>
                </a:lnTo>
                <a:lnTo>
                  <a:pt x="2054" y="228"/>
                </a:lnTo>
                <a:lnTo>
                  <a:pt x="2066" y="228"/>
                </a:lnTo>
                <a:lnTo>
                  <a:pt x="2072" y="228"/>
                </a:lnTo>
                <a:lnTo>
                  <a:pt x="2083" y="228"/>
                </a:lnTo>
                <a:lnTo>
                  <a:pt x="2089" y="228"/>
                </a:lnTo>
                <a:lnTo>
                  <a:pt x="2095" y="228"/>
                </a:lnTo>
                <a:lnTo>
                  <a:pt x="2107" y="228"/>
                </a:lnTo>
                <a:lnTo>
                  <a:pt x="2113" y="228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695600" y="2943360"/>
            <a:ext cx="1438200" cy="291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st power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133800" y="1762200"/>
            <a:ext cx="0" cy="4114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3259080" y="2666880"/>
            <a:ext cx="493920" cy="189000"/>
            <a:chOff x="3259080" y="2666880"/>
            <a:chExt cx="493920" cy="189000"/>
          </a:xfrm>
        </p:grpSpPr>
        <p:sp>
          <p:nvSpPr>
            <p:cNvPr id="1356" name=""/>
            <p:cNvSpPr/>
            <p:nvPr/>
          </p:nvSpPr>
          <p:spPr>
            <a:xfrm>
              <a:off x="3259080" y="2666880"/>
              <a:ext cx="49392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596400" y="2712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306600" y="2757240"/>
              <a:ext cx="2574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3259080" y="3832200"/>
            <a:ext cx="493920" cy="188640"/>
            <a:chOff x="3259080" y="3832200"/>
            <a:chExt cx="493920" cy="188640"/>
          </a:xfrm>
        </p:grpSpPr>
        <p:sp>
          <p:nvSpPr>
            <p:cNvPr id="1360" name=""/>
            <p:cNvSpPr/>
            <p:nvPr/>
          </p:nvSpPr>
          <p:spPr>
            <a:xfrm>
              <a:off x="3259080" y="3832200"/>
              <a:ext cx="493920" cy="18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596400" y="387828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298680" y="3929040"/>
              <a:ext cx="2574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3259080" y="5006880"/>
            <a:ext cx="493920" cy="189000"/>
            <a:chOff x="3259080" y="5006880"/>
            <a:chExt cx="493920" cy="189000"/>
          </a:xfrm>
        </p:grpSpPr>
        <p:sp>
          <p:nvSpPr>
            <p:cNvPr id="1364" name=""/>
            <p:cNvSpPr/>
            <p:nvPr/>
          </p:nvSpPr>
          <p:spPr>
            <a:xfrm>
              <a:off x="3259080" y="5006880"/>
              <a:ext cx="49392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287880" y="5100840"/>
              <a:ext cx="25704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596400" y="5052960"/>
              <a:ext cx="12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7021440" y="1801800"/>
            <a:ext cx="0" cy="4114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pice Thermal Simulation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732960" y="1652760"/>
            <a:ext cx="7953480" cy="72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an electrical analogy to do thermal analysis the following rules a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1057320" y="2657520"/>
          <a:ext cx="7124760" cy="2414520"/>
        </p:xfrm>
        <a:graphic>
          <a:graphicData uri="http://schemas.openxmlformats.org/drawingml/2006/table">
            <a:tbl>
              <a:tblPr/>
              <a:tblGrid>
                <a:gridCol w="2990880"/>
                <a:gridCol w="413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lectr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oltage (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mperature difference (°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urrent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wer 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sistance (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Ω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rmal resistance (°C/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apacitance (far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rmal capacit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W-sec/°C) [Tau/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Components of a Spice model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2"/>
          <a:stretch/>
        </p:blipFill>
        <p:spPr>
          <a:xfrm>
            <a:off x="5183280" y="1603440"/>
            <a:ext cx="2814480" cy="462276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447840" y="1762200"/>
            <a:ext cx="4485960" cy="520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ece–wise linear current source for Power input from each source generating he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962600" y="1914480"/>
            <a:ext cx="666720" cy="190440"/>
          </a:xfrm>
          <a:custGeom>
            <a:avLst/>
            <a:gdLst/>
            <a:ahLst/>
            <a:rect l="l" t="t" r="r" b="b"/>
            <a:pathLst>
              <a:path w="420" h="120">
                <a:moveTo>
                  <a:pt x="0" y="108"/>
                </a:moveTo>
                <a:cubicBezTo>
                  <a:pt x="40" y="107"/>
                  <a:pt x="170" y="120"/>
                  <a:pt x="240" y="102"/>
                </a:cubicBezTo>
                <a:cubicBezTo>
                  <a:pt x="310" y="84"/>
                  <a:pt x="382" y="21"/>
                  <a:pt x="420" y="0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933800" y="2039760"/>
            <a:ext cx="1362240" cy="1046520"/>
          </a:xfrm>
          <a:custGeom>
            <a:avLst/>
            <a:gdLst/>
            <a:ahLst/>
            <a:rect l="l" t="t" r="r" b="b"/>
            <a:pathLst>
              <a:path w="858" h="659">
                <a:moveTo>
                  <a:pt x="0" y="41"/>
                </a:moveTo>
                <a:cubicBezTo>
                  <a:pt x="85" y="44"/>
                  <a:pt x="390" y="0"/>
                  <a:pt x="510" y="59"/>
                </a:cubicBezTo>
                <a:cubicBezTo>
                  <a:pt x="630" y="118"/>
                  <a:pt x="662" y="295"/>
                  <a:pt x="720" y="395"/>
                </a:cubicBezTo>
                <a:cubicBezTo>
                  <a:pt x="778" y="495"/>
                  <a:pt x="829" y="604"/>
                  <a:pt x="858" y="659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952880" y="1995480"/>
            <a:ext cx="1962360" cy="1138320"/>
          </a:xfrm>
          <a:custGeom>
            <a:avLst/>
            <a:gdLst/>
            <a:ahLst/>
            <a:rect l="l" t="t" r="r" b="b"/>
            <a:pathLst>
              <a:path w="1236" h="717">
                <a:moveTo>
                  <a:pt x="0" y="75"/>
                </a:moveTo>
                <a:cubicBezTo>
                  <a:pt x="91" y="73"/>
                  <a:pt x="404" y="56"/>
                  <a:pt x="546" y="57"/>
                </a:cubicBezTo>
                <a:cubicBezTo>
                  <a:pt x="688" y="58"/>
                  <a:pt x="771" y="0"/>
                  <a:pt x="852" y="81"/>
                </a:cubicBezTo>
                <a:cubicBezTo>
                  <a:pt x="933" y="162"/>
                  <a:pt x="968" y="437"/>
                  <a:pt x="1032" y="543"/>
                </a:cubicBezTo>
                <a:cubicBezTo>
                  <a:pt x="1096" y="649"/>
                  <a:pt x="1193" y="681"/>
                  <a:pt x="1236" y="717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16520" y="1976400"/>
            <a:ext cx="2503440" cy="1128600"/>
          </a:xfrm>
          <a:custGeom>
            <a:avLst/>
            <a:gdLst/>
            <a:ahLst/>
            <a:rect l="l" t="t" r="r" b="b"/>
            <a:pathLst>
              <a:path w="1577" h="711">
                <a:moveTo>
                  <a:pt x="0" y="82"/>
                </a:moveTo>
                <a:cubicBezTo>
                  <a:pt x="91" y="80"/>
                  <a:pt x="352" y="65"/>
                  <a:pt x="546" y="64"/>
                </a:cubicBezTo>
                <a:cubicBezTo>
                  <a:pt x="740" y="63"/>
                  <a:pt x="1020" y="0"/>
                  <a:pt x="1163" y="75"/>
                </a:cubicBezTo>
                <a:cubicBezTo>
                  <a:pt x="1306" y="150"/>
                  <a:pt x="1334" y="407"/>
                  <a:pt x="1403" y="513"/>
                </a:cubicBezTo>
                <a:cubicBezTo>
                  <a:pt x="1472" y="619"/>
                  <a:pt x="1541" y="670"/>
                  <a:pt x="1577" y="711"/>
                </a:cubicBez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897440" y="1876320"/>
            <a:ext cx="407880" cy="3602160"/>
          </a:xfrm>
          <a:custGeom>
            <a:avLst/>
            <a:gdLst/>
            <a:ahLst/>
            <a:rect l="l" t="t" r="r" b="b"/>
            <a:pathLst>
              <a:path w="257" h="2269">
                <a:moveTo>
                  <a:pt x="0" y="2269"/>
                </a:moveTo>
                <a:cubicBezTo>
                  <a:pt x="18" y="1975"/>
                  <a:pt x="64" y="882"/>
                  <a:pt x="107" y="504"/>
                </a:cubicBezTo>
                <a:cubicBezTo>
                  <a:pt x="150" y="126"/>
                  <a:pt x="226" y="105"/>
                  <a:pt x="257" y="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869000" y="5497560"/>
            <a:ext cx="388800" cy="655560"/>
          </a:xfrm>
          <a:custGeom>
            <a:avLst/>
            <a:gdLst/>
            <a:ahLst/>
            <a:rect l="l" t="t" r="r" b="b"/>
            <a:pathLst>
              <a:path w="245" h="413">
                <a:moveTo>
                  <a:pt x="0" y="0"/>
                </a:moveTo>
                <a:cubicBezTo>
                  <a:pt x="8" y="44"/>
                  <a:pt x="25" y="199"/>
                  <a:pt x="47" y="263"/>
                </a:cubicBezTo>
                <a:cubicBezTo>
                  <a:pt x="69" y="327"/>
                  <a:pt x="98" y="358"/>
                  <a:pt x="131" y="383"/>
                </a:cubicBezTo>
                <a:cubicBezTo>
                  <a:pt x="164" y="408"/>
                  <a:pt x="221" y="407"/>
                  <a:pt x="245" y="413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88080" y="5506920"/>
            <a:ext cx="1046160" cy="800280"/>
          </a:xfrm>
          <a:custGeom>
            <a:avLst/>
            <a:gdLst/>
            <a:ahLst/>
            <a:rect l="l" t="t" r="r" b="b"/>
            <a:pathLst>
              <a:path w="659" h="504">
                <a:moveTo>
                  <a:pt x="0" y="0"/>
                </a:moveTo>
                <a:cubicBezTo>
                  <a:pt x="14" y="68"/>
                  <a:pt x="32" y="325"/>
                  <a:pt x="83" y="407"/>
                </a:cubicBezTo>
                <a:cubicBezTo>
                  <a:pt x="134" y="489"/>
                  <a:pt x="231" y="478"/>
                  <a:pt x="305" y="491"/>
                </a:cubicBezTo>
                <a:cubicBezTo>
                  <a:pt x="379" y="504"/>
                  <a:pt x="468" y="495"/>
                  <a:pt x="527" y="485"/>
                </a:cubicBezTo>
                <a:cubicBezTo>
                  <a:pt x="586" y="475"/>
                  <a:pt x="632" y="442"/>
                  <a:pt x="659" y="431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892760" y="5499000"/>
            <a:ext cx="1603440" cy="854280"/>
          </a:xfrm>
          <a:custGeom>
            <a:avLst/>
            <a:gdLst/>
            <a:ahLst/>
            <a:rect l="l" t="t" r="r" b="b"/>
            <a:pathLst>
              <a:path w="1010" h="538">
                <a:moveTo>
                  <a:pt x="4" y="0"/>
                </a:moveTo>
                <a:cubicBezTo>
                  <a:pt x="22" y="76"/>
                  <a:pt x="0" y="370"/>
                  <a:pt x="110" y="454"/>
                </a:cubicBezTo>
                <a:cubicBezTo>
                  <a:pt x="220" y="538"/>
                  <a:pt x="539" y="496"/>
                  <a:pt x="662" y="502"/>
                </a:cubicBezTo>
                <a:cubicBezTo>
                  <a:pt x="785" y="508"/>
                  <a:pt x="790" y="502"/>
                  <a:pt x="848" y="490"/>
                </a:cubicBezTo>
                <a:cubicBezTo>
                  <a:pt x="906" y="478"/>
                  <a:pt x="976" y="442"/>
                  <a:pt x="1010" y="430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883040" y="5533920"/>
            <a:ext cx="2203560" cy="793800"/>
          </a:xfrm>
          <a:custGeom>
            <a:avLst/>
            <a:gdLst/>
            <a:ahLst/>
            <a:rect l="l" t="t" r="r" b="b"/>
            <a:pathLst>
              <a:path w="1388" h="500">
                <a:moveTo>
                  <a:pt x="8" y="0"/>
                </a:moveTo>
                <a:cubicBezTo>
                  <a:pt x="23" y="70"/>
                  <a:pt x="0" y="340"/>
                  <a:pt x="98" y="420"/>
                </a:cubicBezTo>
                <a:cubicBezTo>
                  <a:pt x="196" y="500"/>
                  <a:pt x="459" y="469"/>
                  <a:pt x="596" y="480"/>
                </a:cubicBezTo>
                <a:cubicBezTo>
                  <a:pt x="733" y="491"/>
                  <a:pt x="826" y="491"/>
                  <a:pt x="920" y="486"/>
                </a:cubicBezTo>
                <a:cubicBezTo>
                  <a:pt x="1014" y="481"/>
                  <a:pt x="1080" y="463"/>
                  <a:pt x="1158" y="450"/>
                </a:cubicBezTo>
                <a:cubicBezTo>
                  <a:pt x="1236" y="437"/>
                  <a:pt x="1350" y="415"/>
                  <a:pt x="1388" y="408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41360" y="2374920"/>
            <a:ext cx="4486320" cy="5202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ing tool to add voltages from the separate interaction networks with the self heat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17960" y="2185920"/>
            <a:ext cx="1311480" cy="331920"/>
          </a:xfrm>
          <a:custGeom>
            <a:avLst/>
            <a:gdLst/>
            <a:ahLst/>
            <a:rect l="l" t="t" r="r" b="b"/>
            <a:pathLst>
              <a:path w="826" h="209">
                <a:moveTo>
                  <a:pt x="0" y="209"/>
                </a:moveTo>
                <a:cubicBezTo>
                  <a:pt x="19" y="183"/>
                  <a:pt x="65" y="84"/>
                  <a:pt x="112" y="51"/>
                </a:cubicBezTo>
                <a:cubicBezTo>
                  <a:pt x="159" y="18"/>
                  <a:pt x="202" y="0"/>
                  <a:pt x="280" y="9"/>
                </a:cubicBezTo>
                <a:cubicBezTo>
                  <a:pt x="358" y="18"/>
                  <a:pt x="489" y="80"/>
                  <a:pt x="580" y="105"/>
                </a:cubicBezTo>
                <a:cubicBezTo>
                  <a:pt x="671" y="130"/>
                  <a:pt x="775" y="148"/>
                  <a:pt x="826" y="159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49280" y="5354640"/>
            <a:ext cx="44863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ground – by adding a voltage potential to the ground point ambient temperature can be ad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4919760" y="3147840"/>
            <a:ext cx="280800" cy="43200"/>
          </a:xfrm>
          <a:custGeom>
            <a:avLst/>
            <a:gdLst/>
            <a:ahLst/>
            <a:rect l="l" t="t" r="r" b="b"/>
            <a:pathLst>
              <a:path w="201" h="129">
                <a:moveTo>
                  <a:pt x="0" y="129"/>
                </a:moveTo>
                <a:cubicBezTo>
                  <a:pt x="21" y="122"/>
                  <a:pt x="95" y="106"/>
                  <a:pt x="129" y="84"/>
                </a:cubicBezTo>
                <a:cubicBezTo>
                  <a:pt x="163" y="62"/>
                  <a:pt x="186" y="18"/>
                  <a:pt x="201" y="0"/>
                </a:cubicBezTo>
              </a:path>
            </a:pathLst>
          </a:custGeom>
          <a:noFill/>
          <a:ln w="126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42800" y="3005280"/>
            <a:ext cx="448632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equivalent Resistor – Capacitor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133960" y="2181240"/>
            <a:ext cx="905040" cy="4029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924440" y="2986200"/>
            <a:ext cx="1352520" cy="814320"/>
          </a:xfrm>
          <a:custGeom>
            <a:avLst/>
            <a:gdLst/>
            <a:ahLst/>
            <a:rect l="l" t="t" r="r" b="b"/>
            <a:pathLst>
              <a:path w="852" h="513">
                <a:moveTo>
                  <a:pt x="0" y="99"/>
                </a:moveTo>
                <a:cubicBezTo>
                  <a:pt x="98" y="94"/>
                  <a:pt x="446" y="0"/>
                  <a:pt x="588" y="69"/>
                </a:cubicBezTo>
                <a:cubicBezTo>
                  <a:pt x="730" y="138"/>
                  <a:pt x="797" y="421"/>
                  <a:pt x="852" y="513"/>
                </a:cubicBezTo>
              </a:path>
            </a:pathLst>
          </a:custGeom>
          <a:noFill/>
          <a:ln w="1260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830920" y="3592440"/>
            <a:ext cx="2209680" cy="26766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44600" y="3444840"/>
            <a:ext cx="448632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utput port (OUT1) will be where you want to monitor the temperature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925880" y="2666880"/>
            <a:ext cx="2665440" cy="916200"/>
          </a:xfrm>
          <a:custGeom>
            <a:avLst/>
            <a:gdLst/>
            <a:ahLst/>
            <a:rect l="l" t="t" r="r" b="b"/>
            <a:pathLst>
              <a:path w="1679" h="577">
                <a:moveTo>
                  <a:pt x="0" y="577"/>
                </a:moveTo>
                <a:cubicBezTo>
                  <a:pt x="34" y="544"/>
                  <a:pt x="69" y="453"/>
                  <a:pt x="203" y="378"/>
                </a:cubicBezTo>
                <a:cubicBezTo>
                  <a:pt x="337" y="303"/>
                  <a:pt x="557" y="189"/>
                  <a:pt x="803" y="126"/>
                </a:cubicBezTo>
                <a:cubicBezTo>
                  <a:pt x="1049" y="63"/>
                  <a:pt x="1497" y="26"/>
                  <a:pt x="1679" y="0"/>
                </a:cubicBezTo>
              </a:path>
            </a:pathLst>
          </a:custGeom>
          <a:noFill/>
          <a:ln w="12600">
            <a:solidFill>
              <a:srgbClr val="99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36680" y="4056120"/>
            <a:ext cx="448632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heat source will require a similar block in order to simulate the temperature response of the self heating effect as well as the intera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250" autoRev="1" fill="hold"/>
                                        <p:tgtEl>
                                          <p:spTgt spid="1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250" autoRev="1" fill="hold"/>
                                        <p:tgtEl>
                                          <p:spTgt spid="13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5 -0.20556 E">
                                      <p:cBhvr>
                                        <p:cTn id="435" dur="2000" fill="hold"/>
                                        <p:tgtEl>
                                          <p:spTgt spid="1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200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Conclusions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right tools a Thermal R-C network can be generated from temperature data which is captured from measurements or Finite Elemen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allows for generating complex – compact transient thermal models with several heat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blems can be solved using a spread sheet tool like Exc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icroso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can also be performed using Electrical tools such as SPICE or P-SPICE. (Assuming a voltage summing tools is available in the librar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Recommendations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s of power can be added but may cause solution instability in tools such as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ize can get to the point of overwhelming the computational capability of the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(&gt;100 networ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Networks can be used to simulate the thermal response of a system using commonly available software tools, where as Cauer networks (which are closer to a physical lumped system) ar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er Networks are also harder to generate physically representative lumped parameters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999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2880" y="1922040"/>
            <a:ext cx="7743960" cy="414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tting up the Problem-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rve Fitting a R-Tau Model to Transi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ing Linear superposition to solve Complex waveforms in Exce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sing Linear superposition to solve Complex waveforms in Electrical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lusion/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33000" y="1557360"/>
            <a:ext cx="40194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. E. Mix and A. Bar-Cohen, “Transient and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rmo-Structural Modeling of a P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”, Proceedings of the ASME Winter 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, Nov. 1992, AS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Accuracy and Time Resolution in Thermal Trans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 Element Analysis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SYS 2002 Conference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hib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pril 2002, R.P. Stout &amp; D.T. Bil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A Conjugate Numerical-RC Network Predic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nsient Thermal Response of a Power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in Handheld Telecommunication,” Inter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, July 2005, T.Y. Lee, V.A. Chiriac, R.P. St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AND8223-D Predicting Thermal Runaway. Ro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ut, Available at www.onsemi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.J. Hepp, C.F.Wheatley, “A New PSICE Sub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ower MOSFET Featuring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Options’, IEEE Transactions on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s Specialist Conference Records, 1991 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3-5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 Di Giocanni, G. Bazzabi, A. Grimaldi, “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PICE Power MOSFET Subcircuit with Assoi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Model”, PCIM 2002 Europe, pp. 271-2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324320" y="1519200"/>
            <a:ext cx="4572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.Marz, P.Nance, “Thermal Modeling of Powerelectronics Systems”, Infineon Technologi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Note, mmpn_eng.pd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prade, S.Pearson, S. Benczkowsi, G. Dolny, 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ley “ A Revised MOSFET Model with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Compensation” Fairchild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note 7533, Oct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Model Transient Voltage Suppressor Diodes” St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geman, MicroSim Application Notes, Version 8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1997, pp. 134-1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8214-D General Thermal RC Networks. 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ut, Available at www.onsemi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8218-D How to Extend a Thermal-RC-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,. Roger Stout, www.onsemi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8219-D Duty Cycle and Thermal Trans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, Roger Stout, www.onsemi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8221-D Thermal RC Ladder Networks, Ro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ut, www.onsemi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Times New Roman"/>
              </a:rPr>
              <a:t>Setting up the Problem- Data collection</a:t>
            </a:r>
            <a:endParaRPr b="1" lang="en-US" sz="32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4764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eat source needs to be independently h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otential measurement location needs to be moni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techniques require high speed data acquisition for multiple inputs.  A method of converting voltage from a device to a temperature from a calibrated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echniques require tracking temperature locations and storing the values for later process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temperature data must then be converted to a transient impedance curve and fit to a R-Tau net-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57440" y="1647720"/>
            <a:ext cx="1047960" cy="406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680" y="767880"/>
            <a:ext cx="29908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ach heat source needs to be independently heated.</a:t>
            </a:r>
            <a:endParaRPr b="1" lang="en-US" sz="16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3666600" y="1857240"/>
            <a:ext cx="72396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02000" y="798480"/>
            <a:ext cx="5514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Each heat source needs to be independently measured based on the interaction of the oth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3658680" y="2773440"/>
            <a:ext cx="72396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3668400" y="3678120"/>
            <a:ext cx="72396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668400" y="4535280"/>
            <a:ext cx="72360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3320" y="217188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4760" y="310680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5920" y="403236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487188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4200" y="1790640"/>
            <a:ext cx="141912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25640" y="2744640"/>
            <a:ext cx="141912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24200" y="2886120"/>
            <a:ext cx="1371600" cy="561960"/>
          </a:xfrm>
          <a:custGeom>
            <a:avLst/>
            <a:gdLst/>
            <a:ahLst/>
            <a:rect l="l" t="t" r="r" b="b"/>
            <a:pathLst>
              <a:path w="864" h="354">
                <a:moveTo>
                  <a:pt x="0" y="354"/>
                </a:moveTo>
                <a:lnTo>
                  <a:pt x="228" y="354"/>
                </a:lnTo>
                <a:lnTo>
                  <a:pt x="222" y="0"/>
                </a:lnTo>
                <a:lnTo>
                  <a:pt x="336" y="0"/>
                </a:lnTo>
                <a:lnTo>
                  <a:pt x="342" y="354"/>
                </a:lnTo>
                <a:lnTo>
                  <a:pt x="864" y="35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27080" y="3641760"/>
            <a:ext cx="141948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4200" y="3800520"/>
            <a:ext cx="1371600" cy="552240"/>
          </a:xfrm>
          <a:custGeom>
            <a:avLst/>
            <a:gdLst/>
            <a:ahLst/>
            <a:rect l="l" t="t" r="r" b="b"/>
            <a:pathLst>
              <a:path w="864" h="348">
                <a:moveTo>
                  <a:pt x="0" y="342"/>
                </a:moveTo>
                <a:lnTo>
                  <a:pt x="444" y="342"/>
                </a:lnTo>
                <a:lnTo>
                  <a:pt x="444" y="0"/>
                </a:lnTo>
                <a:lnTo>
                  <a:pt x="564" y="0"/>
                </a:lnTo>
                <a:lnTo>
                  <a:pt x="564" y="342"/>
                </a:lnTo>
                <a:lnTo>
                  <a:pt x="864" y="348"/>
                </a:ln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8880" y="1933560"/>
            <a:ext cx="1366920" cy="571680"/>
          </a:xfrm>
          <a:custGeom>
            <a:avLst/>
            <a:gdLst/>
            <a:ahLst/>
            <a:rect l="l" t="t" r="r" b="b"/>
            <a:pathLst>
              <a:path w="861" h="360">
                <a:moveTo>
                  <a:pt x="4" y="355"/>
                </a:moveTo>
                <a:lnTo>
                  <a:pt x="0" y="0"/>
                </a:lnTo>
                <a:lnTo>
                  <a:pt x="93" y="0"/>
                </a:lnTo>
                <a:lnTo>
                  <a:pt x="93" y="351"/>
                </a:lnTo>
                <a:lnTo>
                  <a:pt x="861" y="360"/>
                </a:ln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8880" y="4557600"/>
            <a:ext cx="141912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33560" y="4700520"/>
            <a:ext cx="1400040" cy="566640"/>
          </a:xfrm>
          <a:custGeom>
            <a:avLst/>
            <a:gdLst/>
            <a:ahLst/>
            <a:rect l="l" t="t" r="r" b="b"/>
            <a:pathLst>
              <a:path w="882" h="357">
                <a:moveTo>
                  <a:pt x="0" y="354"/>
                </a:moveTo>
                <a:lnTo>
                  <a:pt x="633" y="351"/>
                </a:lnTo>
                <a:lnTo>
                  <a:pt x="633" y="0"/>
                </a:lnTo>
                <a:lnTo>
                  <a:pt x="750" y="0"/>
                </a:lnTo>
                <a:lnTo>
                  <a:pt x="753" y="357"/>
                </a:lnTo>
                <a:lnTo>
                  <a:pt x="882" y="354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07000" y="1830240"/>
            <a:ext cx="319860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73640" y="219240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65720" y="311796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94160" y="402264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5080" y="4870440"/>
            <a:ext cx="3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831960" y="3339360"/>
            <a:ext cx="17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er input (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6240" y="5370480"/>
            <a:ext cx="17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4080" y="5715000"/>
            <a:ext cx="17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7472160" y="3369600"/>
            <a:ext cx="17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erature (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99080" y="2755800"/>
            <a:ext cx="319860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9320" y="3643200"/>
            <a:ext cx="3198600" cy="72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0240" y="4500720"/>
            <a:ext cx="3198600" cy="72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2640" y="5745240"/>
            <a:ext cx="17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mal System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29320" y="4611600"/>
            <a:ext cx="2977920" cy="611280"/>
            <a:chOff x="4729320" y="4611600"/>
            <a:chExt cx="2977920" cy="611280"/>
          </a:xfrm>
        </p:grpSpPr>
        <p:sp>
          <p:nvSpPr>
            <p:cNvPr id="156" name=""/>
            <p:cNvSpPr/>
            <p:nvPr/>
          </p:nvSpPr>
          <p:spPr>
            <a:xfrm>
              <a:off x="4729320" y="5105520"/>
              <a:ext cx="742680" cy="109440"/>
            </a:xfrm>
            <a:custGeom>
              <a:avLst/>
              <a:gdLst/>
              <a:ahLst/>
              <a:rect l="l" t="t" r="r" b="b"/>
              <a:pathLst>
                <a:path w="468" h="69">
                  <a:moveTo>
                    <a:pt x="0" y="67"/>
                  </a:moveTo>
                  <a:cubicBezTo>
                    <a:pt x="7" y="65"/>
                    <a:pt x="21" y="68"/>
                    <a:pt x="41" y="57"/>
                  </a:cubicBezTo>
                  <a:cubicBezTo>
                    <a:pt x="61" y="46"/>
                    <a:pt x="100" y="12"/>
                    <a:pt x="119" y="2"/>
                  </a:cubicBezTo>
                  <a:lnTo>
                    <a:pt x="153" y="0"/>
                  </a:lnTo>
                  <a:cubicBezTo>
                    <a:pt x="176" y="8"/>
                    <a:pt x="205" y="39"/>
                    <a:pt x="257" y="50"/>
                  </a:cubicBezTo>
                  <a:cubicBezTo>
                    <a:pt x="309" y="61"/>
                    <a:pt x="424" y="65"/>
                    <a:pt x="468" y="6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72000" y="5029200"/>
              <a:ext cx="743040" cy="185760"/>
            </a:xfrm>
            <a:custGeom>
              <a:avLst/>
              <a:gdLst/>
              <a:ahLst/>
              <a:rect l="l" t="t" r="r" b="b"/>
              <a:pathLst>
                <a:path w="468" h="117">
                  <a:moveTo>
                    <a:pt x="0" y="113"/>
                  </a:moveTo>
                  <a:cubicBezTo>
                    <a:pt x="7" y="110"/>
                    <a:pt x="21" y="115"/>
                    <a:pt x="41" y="97"/>
                  </a:cubicBezTo>
                  <a:cubicBezTo>
                    <a:pt x="61" y="78"/>
                    <a:pt x="98" y="18"/>
                    <a:pt x="119" y="2"/>
                  </a:cubicBezTo>
                  <a:lnTo>
                    <a:pt x="165" y="0"/>
                  </a:lnTo>
                  <a:cubicBezTo>
                    <a:pt x="188" y="14"/>
                    <a:pt x="207" y="66"/>
                    <a:pt x="257" y="85"/>
                  </a:cubicBezTo>
                  <a:cubicBezTo>
                    <a:pt x="307" y="104"/>
                    <a:pt x="424" y="110"/>
                    <a:pt x="468" y="11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32680" y="4933800"/>
              <a:ext cx="742680" cy="289080"/>
            </a:xfrm>
            <a:custGeom>
              <a:avLst/>
              <a:gdLst/>
              <a:ahLst/>
              <a:rect l="l" t="t" r="r" b="b"/>
              <a:pathLst>
                <a:path w="468" h="182">
                  <a:moveTo>
                    <a:pt x="0" y="176"/>
                  </a:moveTo>
                  <a:cubicBezTo>
                    <a:pt x="7" y="172"/>
                    <a:pt x="21" y="179"/>
                    <a:pt x="41" y="151"/>
                  </a:cubicBezTo>
                  <a:cubicBezTo>
                    <a:pt x="61" y="123"/>
                    <a:pt x="98" y="32"/>
                    <a:pt x="119" y="7"/>
                  </a:cubicBezTo>
                  <a:lnTo>
                    <a:pt x="166" y="0"/>
                  </a:lnTo>
                  <a:cubicBezTo>
                    <a:pt x="189" y="21"/>
                    <a:pt x="207" y="103"/>
                    <a:pt x="257" y="133"/>
                  </a:cubicBezTo>
                  <a:cubicBezTo>
                    <a:pt x="307" y="163"/>
                    <a:pt x="424" y="172"/>
                    <a:pt x="468" y="18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64200" y="4611600"/>
              <a:ext cx="743040" cy="60984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378"/>
                  </a:moveTo>
                  <a:cubicBezTo>
                    <a:pt x="5" y="338"/>
                    <a:pt x="15" y="201"/>
                    <a:pt x="30" y="138"/>
                  </a:cubicBezTo>
                  <a:cubicBezTo>
                    <a:pt x="45" y="75"/>
                    <a:pt x="68" y="23"/>
                    <a:pt x="90" y="0"/>
                  </a:cubicBezTo>
                  <a:lnTo>
                    <a:pt x="162" y="0"/>
                  </a:lnTo>
                  <a:cubicBezTo>
                    <a:pt x="184" y="47"/>
                    <a:pt x="171" y="218"/>
                    <a:pt x="222" y="282"/>
                  </a:cubicBezTo>
                  <a:cubicBezTo>
                    <a:pt x="273" y="346"/>
                    <a:pt x="417" y="363"/>
                    <a:pt x="468" y="3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56320" y="3746520"/>
            <a:ext cx="2984400" cy="622440"/>
            <a:chOff x="4756320" y="3746520"/>
            <a:chExt cx="2984400" cy="622440"/>
          </a:xfrm>
        </p:grpSpPr>
        <p:sp>
          <p:nvSpPr>
            <p:cNvPr id="161" name=""/>
            <p:cNvSpPr/>
            <p:nvPr/>
          </p:nvSpPr>
          <p:spPr>
            <a:xfrm>
              <a:off x="4756320" y="4162320"/>
              <a:ext cx="742680" cy="184320"/>
            </a:xfrm>
            <a:custGeom>
              <a:avLst/>
              <a:gdLst/>
              <a:ahLst/>
              <a:rect l="l" t="t" r="r" b="b"/>
              <a:pathLst>
                <a:path w="468" h="116">
                  <a:moveTo>
                    <a:pt x="0" y="112"/>
                  </a:moveTo>
                  <a:cubicBezTo>
                    <a:pt x="7" y="109"/>
                    <a:pt x="27" y="114"/>
                    <a:pt x="41" y="96"/>
                  </a:cubicBezTo>
                  <a:cubicBezTo>
                    <a:pt x="55" y="78"/>
                    <a:pt x="65" y="22"/>
                    <a:pt x="82" y="6"/>
                  </a:cubicBezTo>
                  <a:lnTo>
                    <a:pt x="142" y="0"/>
                  </a:lnTo>
                  <a:cubicBezTo>
                    <a:pt x="171" y="13"/>
                    <a:pt x="203" y="65"/>
                    <a:pt x="257" y="84"/>
                  </a:cubicBezTo>
                  <a:cubicBezTo>
                    <a:pt x="311" y="103"/>
                    <a:pt x="424" y="109"/>
                    <a:pt x="468" y="11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99000" y="4076640"/>
              <a:ext cx="743040" cy="279360"/>
            </a:xfrm>
            <a:custGeom>
              <a:avLst/>
              <a:gdLst/>
              <a:ahLst/>
              <a:rect l="l" t="t" r="r" b="b"/>
              <a:pathLst>
                <a:path w="468" h="176">
                  <a:moveTo>
                    <a:pt x="0" y="170"/>
                  </a:moveTo>
                  <a:cubicBezTo>
                    <a:pt x="7" y="166"/>
                    <a:pt x="25" y="173"/>
                    <a:pt x="41" y="145"/>
                  </a:cubicBezTo>
                  <a:cubicBezTo>
                    <a:pt x="57" y="117"/>
                    <a:pt x="76" y="24"/>
                    <a:pt x="94" y="0"/>
                  </a:cubicBezTo>
                  <a:lnTo>
                    <a:pt x="148" y="0"/>
                  </a:lnTo>
                  <a:cubicBezTo>
                    <a:pt x="175" y="21"/>
                    <a:pt x="204" y="98"/>
                    <a:pt x="257" y="127"/>
                  </a:cubicBezTo>
                  <a:cubicBezTo>
                    <a:pt x="310" y="156"/>
                    <a:pt x="424" y="166"/>
                    <a:pt x="468" y="176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51400" y="3746520"/>
              <a:ext cx="743040" cy="60948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378"/>
                  </a:moveTo>
                  <a:cubicBezTo>
                    <a:pt x="5" y="338"/>
                    <a:pt x="15" y="201"/>
                    <a:pt x="30" y="138"/>
                  </a:cubicBezTo>
                  <a:cubicBezTo>
                    <a:pt x="45" y="75"/>
                    <a:pt x="68" y="23"/>
                    <a:pt x="90" y="0"/>
                  </a:cubicBezTo>
                  <a:lnTo>
                    <a:pt x="162" y="0"/>
                  </a:lnTo>
                  <a:cubicBezTo>
                    <a:pt x="184" y="47"/>
                    <a:pt x="171" y="218"/>
                    <a:pt x="222" y="282"/>
                  </a:cubicBezTo>
                  <a:cubicBezTo>
                    <a:pt x="273" y="346"/>
                    <a:pt x="417" y="363"/>
                    <a:pt x="468" y="3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97680" y="4095720"/>
              <a:ext cx="743040" cy="273240"/>
            </a:xfrm>
            <a:custGeom>
              <a:avLst/>
              <a:gdLst/>
              <a:ahLst/>
              <a:rect l="l" t="t" r="r" b="b"/>
              <a:pathLst>
                <a:path w="468" h="172">
                  <a:moveTo>
                    <a:pt x="0" y="166"/>
                  </a:moveTo>
                  <a:cubicBezTo>
                    <a:pt x="7" y="162"/>
                    <a:pt x="25" y="168"/>
                    <a:pt x="41" y="141"/>
                  </a:cubicBezTo>
                  <a:cubicBezTo>
                    <a:pt x="57" y="114"/>
                    <a:pt x="81" y="29"/>
                    <a:pt x="98" y="6"/>
                  </a:cubicBezTo>
                  <a:lnTo>
                    <a:pt x="146" y="0"/>
                  </a:lnTo>
                  <a:cubicBezTo>
                    <a:pt x="172" y="19"/>
                    <a:pt x="203" y="94"/>
                    <a:pt x="257" y="123"/>
                  </a:cubicBezTo>
                  <a:cubicBezTo>
                    <a:pt x="311" y="152"/>
                    <a:pt x="424" y="162"/>
                    <a:pt x="468" y="1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360" y="2868480"/>
            <a:ext cx="2946600" cy="613080"/>
            <a:chOff x="4716360" y="2868480"/>
            <a:chExt cx="2946600" cy="613080"/>
          </a:xfrm>
        </p:grpSpPr>
        <p:sp>
          <p:nvSpPr>
            <p:cNvPr id="166" name=""/>
            <p:cNvSpPr/>
            <p:nvPr/>
          </p:nvSpPr>
          <p:spPr>
            <a:xfrm>
              <a:off x="4716360" y="3191040"/>
              <a:ext cx="743040" cy="277560"/>
            </a:xfrm>
            <a:custGeom>
              <a:avLst/>
              <a:gdLst/>
              <a:ahLst/>
              <a:rect l="l" t="t" r="r" b="b"/>
              <a:pathLst>
                <a:path w="468" h="175">
                  <a:moveTo>
                    <a:pt x="0" y="169"/>
                  </a:moveTo>
                  <a:cubicBezTo>
                    <a:pt x="7" y="165"/>
                    <a:pt x="21" y="172"/>
                    <a:pt x="41" y="144"/>
                  </a:cubicBezTo>
                  <a:cubicBezTo>
                    <a:pt x="61" y="116"/>
                    <a:pt x="99" y="24"/>
                    <a:pt x="119" y="0"/>
                  </a:cubicBezTo>
                  <a:lnTo>
                    <a:pt x="161" y="0"/>
                  </a:lnTo>
                  <a:cubicBezTo>
                    <a:pt x="184" y="21"/>
                    <a:pt x="206" y="97"/>
                    <a:pt x="257" y="126"/>
                  </a:cubicBezTo>
                  <a:cubicBezTo>
                    <a:pt x="308" y="155"/>
                    <a:pt x="424" y="165"/>
                    <a:pt x="468" y="1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68760" y="2868480"/>
              <a:ext cx="743040" cy="60984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378"/>
                  </a:moveTo>
                  <a:cubicBezTo>
                    <a:pt x="5" y="338"/>
                    <a:pt x="15" y="201"/>
                    <a:pt x="30" y="138"/>
                  </a:cubicBezTo>
                  <a:cubicBezTo>
                    <a:pt x="45" y="75"/>
                    <a:pt x="68" y="23"/>
                    <a:pt x="90" y="0"/>
                  </a:cubicBezTo>
                  <a:lnTo>
                    <a:pt x="162" y="0"/>
                  </a:lnTo>
                  <a:cubicBezTo>
                    <a:pt x="184" y="47"/>
                    <a:pt x="171" y="218"/>
                    <a:pt x="222" y="282"/>
                  </a:cubicBezTo>
                  <a:cubicBezTo>
                    <a:pt x="273" y="346"/>
                    <a:pt x="417" y="363"/>
                    <a:pt x="468" y="3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95960" y="3203640"/>
              <a:ext cx="743040" cy="277920"/>
            </a:xfrm>
            <a:custGeom>
              <a:avLst/>
              <a:gdLst/>
              <a:ahLst/>
              <a:rect l="l" t="t" r="r" b="b"/>
              <a:pathLst>
                <a:path w="468" h="175">
                  <a:moveTo>
                    <a:pt x="0" y="169"/>
                  </a:moveTo>
                  <a:cubicBezTo>
                    <a:pt x="7" y="165"/>
                    <a:pt x="21" y="172"/>
                    <a:pt x="41" y="144"/>
                  </a:cubicBezTo>
                  <a:cubicBezTo>
                    <a:pt x="61" y="116"/>
                    <a:pt x="94" y="24"/>
                    <a:pt x="119" y="0"/>
                  </a:cubicBezTo>
                  <a:lnTo>
                    <a:pt x="191" y="0"/>
                  </a:lnTo>
                  <a:cubicBezTo>
                    <a:pt x="214" y="21"/>
                    <a:pt x="211" y="97"/>
                    <a:pt x="257" y="126"/>
                  </a:cubicBezTo>
                  <a:cubicBezTo>
                    <a:pt x="303" y="155"/>
                    <a:pt x="424" y="165"/>
                    <a:pt x="468" y="1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19920" y="3289320"/>
              <a:ext cx="743040" cy="182520"/>
            </a:xfrm>
            <a:custGeom>
              <a:avLst/>
              <a:gdLst/>
              <a:ahLst/>
              <a:rect l="l" t="t" r="r" b="b"/>
              <a:pathLst>
                <a:path w="468" h="175">
                  <a:moveTo>
                    <a:pt x="0" y="169"/>
                  </a:moveTo>
                  <a:cubicBezTo>
                    <a:pt x="7" y="165"/>
                    <a:pt x="21" y="172"/>
                    <a:pt x="41" y="144"/>
                  </a:cubicBezTo>
                  <a:cubicBezTo>
                    <a:pt x="61" y="116"/>
                    <a:pt x="94" y="24"/>
                    <a:pt x="119" y="0"/>
                  </a:cubicBezTo>
                  <a:lnTo>
                    <a:pt x="191" y="0"/>
                  </a:lnTo>
                  <a:cubicBezTo>
                    <a:pt x="214" y="21"/>
                    <a:pt x="211" y="97"/>
                    <a:pt x="257" y="126"/>
                  </a:cubicBezTo>
                  <a:cubicBezTo>
                    <a:pt x="303" y="155"/>
                    <a:pt x="424" y="165"/>
                    <a:pt x="468" y="1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705200" y="1933560"/>
            <a:ext cx="3006720" cy="615960"/>
            <a:chOff x="4705200" y="1933560"/>
            <a:chExt cx="3006720" cy="615960"/>
          </a:xfrm>
        </p:grpSpPr>
        <p:sp>
          <p:nvSpPr>
            <p:cNvPr id="171" name=""/>
            <p:cNvSpPr/>
            <p:nvPr/>
          </p:nvSpPr>
          <p:spPr>
            <a:xfrm>
              <a:off x="4705200" y="1933560"/>
              <a:ext cx="743040" cy="60948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378"/>
                  </a:moveTo>
                  <a:cubicBezTo>
                    <a:pt x="5" y="338"/>
                    <a:pt x="15" y="201"/>
                    <a:pt x="30" y="138"/>
                  </a:cubicBezTo>
                  <a:cubicBezTo>
                    <a:pt x="45" y="75"/>
                    <a:pt x="68" y="23"/>
                    <a:pt x="90" y="0"/>
                  </a:cubicBezTo>
                  <a:lnTo>
                    <a:pt x="162" y="0"/>
                  </a:lnTo>
                  <a:cubicBezTo>
                    <a:pt x="184" y="47"/>
                    <a:pt x="171" y="218"/>
                    <a:pt x="222" y="282"/>
                  </a:cubicBezTo>
                  <a:cubicBezTo>
                    <a:pt x="273" y="346"/>
                    <a:pt x="417" y="363"/>
                    <a:pt x="468" y="38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1480" y="2268360"/>
              <a:ext cx="743040" cy="277920"/>
            </a:xfrm>
            <a:custGeom>
              <a:avLst/>
              <a:gdLst/>
              <a:ahLst/>
              <a:rect l="l" t="t" r="r" b="b"/>
              <a:pathLst>
                <a:path w="468" h="175">
                  <a:moveTo>
                    <a:pt x="0" y="169"/>
                  </a:moveTo>
                  <a:cubicBezTo>
                    <a:pt x="7" y="165"/>
                    <a:pt x="21" y="172"/>
                    <a:pt x="41" y="144"/>
                  </a:cubicBezTo>
                  <a:cubicBezTo>
                    <a:pt x="61" y="116"/>
                    <a:pt x="94" y="24"/>
                    <a:pt x="119" y="0"/>
                  </a:cubicBezTo>
                  <a:lnTo>
                    <a:pt x="191" y="0"/>
                  </a:lnTo>
                  <a:cubicBezTo>
                    <a:pt x="214" y="21"/>
                    <a:pt x="211" y="97"/>
                    <a:pt x="257" y="126"/>
                  </a:cubicBezTo>
                  <a:cubicBezTo>
                    <a:pt x="303" y="155"/>
                    <a:pt x="424" y="165"/>
                    <a:pt x="468" y="1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95960" y="2365200"/>
              <a:ext cx="743040" cy="182880"/>
            </a:xfrm>
            <a:custGeom>
              <a:avLst/>
              <a:gdLst/>
              <a:ahLst/>
              <a:rect l="l" t="t" r="r" b="b"/>
              <a:pathLst>
                <a:path w="468" h="175">
                  <a:moveTo>
                    <a:pt x="0" y="169"/>
                  </a:moveTo>
                  <a:cubicBezTo>
                    <a:pt x="7" y="165"/>
                    <a:pt x="21" y="172"/>
                    <a:pt x="41" y="144"/>
                  </a:cubicBezTo>
                  <a:cubicBezTo>
                    <a:pt x="61" y="116"/>
                    <a:pt x="94" y="24"/>
                    <a:pt x="119" y="0"/>
                  </a:cubicBezTo>
                  <a:lnTo>
                    <a:pt x="191" y="0"/>
                  </a:lnTo>
                  <a:cubicBezTo>
                    <a:pt x="214" y="21"/>
                    <a:pt x="211" y="97"/>
                    <a:pt x="257" y="126"/>
                  </a:cubicBezTo>
                  <a:cubicBezTo>
                    <a:pt x="303" y="155"/>
                    <a:pt x="424" y="165"/>
                    <a:pt x="468" y="17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9240" y="2438280"/>
              <a:ext cx="742680" cy="111240"/>
            </a:xfrm>
            <a:custGeom>
              <a:avLst/>
              <a:gdLst/>
              <a:ahLst/>
              <a:rect l="l" t="t" r="r" b="b"/>
              <a:pathLst>
                <a:path w="468" h="70">
                  <a:moveTo>
                    <a:pt x="0" y="68"/>
                  </a:moveTo>
                  <a:cubicBezTo>
                    <a:pt x="7" y="66"/>
                    <a:pt x="21" y="69"/>
                    <a:pt x="41" y="58"/>
                  </a:cubicBezTo>
                  <a:cubicBezTo>
                    <a:pt x="61" y="47"/>
                    <a:pt x="100" y="13"/>
                    <a:pt x="119" y="3"/>
                  </a:cubicBezTo>
                  <a:lnTo>
                    <a:pt x="158" y="0"/>
                  </a:lnTo>
                  <a:cubicBezTo>
                    <a:pt x="181" y="8"/>
                    <a:pt x="205" y="39"/>
                    <a:pt x="257" y="51"/>
                  </a:cubicBezTo>
                  <a:cubicBezTo>
                    <a:pt x="309" y="63"/>
                    <a:pt x="424" y="66"/>
                    <a:pt x="468" y="7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727520" y="1965240"/>
            <a:ext cx="3151080" cy="579600"/>
          </a:xfrm>
          <a:custGeom>
            <a:avLst/>
            <a:gdLst/>
            <a:ahLst/>
            <a:rect l="l" t="t" r="r" b="b"/>
            <a:pathLst>
              <a:path w="1985" h="365">
                <a:moveTo>
                  <a:pt x="0" y="360"/>
                </a:moveTo>
                <a:lnTo>
                  <a:pt x="0" y="0"/>
                </a:lnTo>
                <a:lnTo>
                  <a:pt x="153" y="0"/>
                </a:lnTo>
                <a:lnTo>
                  <a:pt x="160" y="364"/>
                </a:lnTo>
                <a:lnTo>
                  <a:pt x="1985" y="365"/>
                </a:ln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05200" y="2924280"/>
            <a:ext cx="3186360" cy="542880"/>
          </a:xfrm>
          <a:custGeom>
            <a:avLst/>
            <a:gdLst/>
            <a:ahLst/>
            <a:rect l="l" t="t" r="r" b="b"/>
            <a:pathLst>
              <a:path w="2007" h="342">
                <a:moveTo>
                  <a:pt x="0" y="339"/>
                </a:moveTo>
                <a:lnTo>
                  <a:pt x="486" y="342"/>
                </a:lnTo>
                <a:lnTo>
                  <a:pt x="492" y="0"/>
                </a:lnTo>
                <a:lnTo>
                  <a:pt x="642" y="0"/>
                </a:lnTo>
                <a:lnTo>
                  <a:pt x="645" y="339"/>
                </a:lnTo>
                <a:lnTo>
                  <a:pt x="2007" y="336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4000" y="3809880"/>
            <a:ext cx="3182760" cy="554040"/>
          </a:xfrm>
          <a:custGeom>
            <a:avLst/>
            <a:gdLst/>
            <a:ahLst/>
            <a:rect l="l" t="t" r="r" b="b"/>
            <a:pathLst>
              <a:path w="2005" h="349">
                <a:moveTo>
                  <a:pt x="0" y="342"/>
                </a:moveTo>
                <a:lnTo>
                  <a:pt x="966" y="345"/>
                </a:lnTo>
                <a:lnTo>
                  <a:pt x="972" y="0"/>
                </a:lnTo>
                <a:lnTo>
                  <a:pt x="1116" y="3"/>
                </a:lnTo>
                <a:lnTo>
                  <a:pt x="1122" y="342"/>
                </a:lnTo>
                <a:lnTo>
                  <a:pt x="2005" y="349"/>
                </a:lnTo>
              </a:path>
            </a:pathLst>
          </a:cu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1400" y="4657680"/>
            <a:ext cx="3170160" cy="566640"/>
          </a:xfrm>
          <a:custGeom>
            <a:avLst/>
            <a:gdLst/>
            <a:ahLst/>
            <a:rect l="l" t="t" r="r" b="b"/>
            <a:pathLst>
              <a:path w="1997" h="357">
                <a:moveTo>
                  <a:pt x="0" y="352"/>
                </a:moveTo>
                <a:lnTo>
                  <a:pt x="1412" y="357"/>
                </a:lnTo>
                <a:lnTo>
                  <a:pt x="1412" y="3"/>
                </a:lnTo>
                <a:lnTo>
                  <a:pt x="1577" y="0"/>
                </a:lnTo>
                <a:lnTo>
                  <a:pt x="1592" y="342"/>
                </a:lnTo>
                <a:lnTo>
                  <a:pt x="1997" y="342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71960" y="1668600"/>
            <a:ext cx="495360" cy="365760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35520" y="1668600"/>
            <a:ext cx="514440" cy="3657600"/>
          </a:xfrm>
          <a:prstGeom prst="rect">
            <a:avLst/>
          </a:prstGeom>
          <a:solidFill>
            <a:srgbClr val="ccffff">
              <a:alpha val="52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8800" y="1668600"/>
            <a:ext cx="447480" cy="366696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24840" y="1668600"/>
            <a:ext cx="628560" cy="364788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345280"/>
            <a:ext cx="2886120" cy="291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00ff"/>
                </a:solidFill>
                <a:latin typeface="Arial"/>
              </a:rPr>
              <a:t>Measurement cycle(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62120"/>
            <a:ext cx="7925040" cy="90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correction for the first millisecond can be performed for a surface flux heat source input using the square-root of time estim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L-STD 883 method 1012, Heat Transfer, J.P Holman 5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d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52520" y="2595600"/>
            <a:ext cx="3514680" cy="461880"/>
            <a:chOff x="1352520" y="2595600"/>
            <a:chExt cx="3514680" cy="46188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1352520" y="2600280"/>
                  <a:ext cx="160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s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π</m:t>
                              </m:r>
                              <m:r>
                                <m:t xml:space="preserve">∗</m:t>
                              </m:r>
                              <m:r>
                                <m:t xml:space="preserve">ρ</m:t>
                              </m:r>
                              <m:r>
                                <m:t xml:space="preserve">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p</m:t>
                              </m:r>
                              <m:r>
                                <m:t xml:space="preserve">∗</m:t>
                              </m:r>
                              <m:r>
                                <m:t xml:space="preserve">K</m:t>
                              </m:r>
                            </m:e>
                          </m:rad>
                        </m:den>
                      </m:f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352680" y="2595600"/>
                  <a:ext cx="151452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s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ff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s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s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581800" y="2671920"/>
                <a:ext cx="17143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me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s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11920" y="3056040"/>
            <a:ext cx="195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[units °C-mm^2-√sec/W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29920" y="3057480"/>
            <a:ext cx="105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[units °C/W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43080" y="3506760"/>
            <a:ext cx="4572000" cy="2667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ea of the surface being heat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ckness of the mater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ρ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nsity of the mater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p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pecific heat of the mater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conductivity of the mater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r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quare-root-of-time con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r_eff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rallel combination of Csr const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(t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response as a function of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qrt(t)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quare-root-of time abbrevi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capacit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u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time const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 (Continued)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38862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d data typically is very noisy because of the switching from a heating condition to a measurement state.  This can last up to 1 millisecond or longer depending on the device character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heat to steady state then switch to measurement and watch the complete cooling curve to eliminate as much noise as possible.  It limits our power input to a steady state value but enhances our measurement accuracy and noise redu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19640" y="1695600"/>
            <a:ext cx="4352760" cy="4017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4772160" y="2438280"/>
            <a:ext cx="466560" cy="14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78320" y="2449440"/>
            <a:ext cx="19080" cy="17431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67200" y="2200320"/>
            <a:ext cx="1533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ing noi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432400" y="4022640"/>
            <a:ext cx="590400" cy="19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729320" y="4766760"/>
            <a:ext cx="1257120" cy="1209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8920" y="5783400"/>
            <a:ext cx="153360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quare-root of time corre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518000" y="1781280"/>
            <a:ext cx="4241880" cy="3951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 (Continued)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38862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d data typically is affected by the short time response of the elements.  Elements that are too thick relative to the heat flow direction will under predict the temperature r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a trade off between model solution time and size and temperature response.  As long as we understand where this limitation begins we can correct for the discrepancies using the square-root of time estim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495400" y="2219400"/>
            <a:ext cx="505080" cy="2628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21360" y="2125800"/>
            <a:ext cx="9720" cy="1895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86560" y="2009880"/>
            <a:ext cx="153324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ck element res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022800" y="4060440"/>
            <a:ext cx="47880" cy="2133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10360" y="4785840"/>
            <a:ext cx="590400" cy="1143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68920" y="5783400"/>
            <a:ext cx="153360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quare-root of time correc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 (Continued)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388620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ing that the square-root of time estimates for a surface flux heat source improves the model, we can take it one step further to improve the curve fitting for a lumped parameter net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mped parameter models suffer the same problems of finite element models.  A lump too large will respond too slowly to represent the actual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ing the short time response lumps into smaller and faster responding lumps improves the accuracy of the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allows us to resize the model for quicker response if need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5059440"/>
            <a:ext cx="4546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A Method of spliting the short time respons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R1=Csr_eff*SQRT(Tau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R2=Csr_eff* SQRT (Tau2)-R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R3=Csr_eff* SQRT (Tau3)-R1-R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R4=Csr_eff* SQRT (Tau4)-R1-R2-R3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464000" y="1758960"/>
            <a:ext cx="4157640" cy="3262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021360" y="2125800"/>
            <a:ext cx="257040" cy="9046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299280" y="3069720"/>
            <a:ext cx="542880" cy="514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98680" y="2422440"/>
            <a:ext cx="771480" cy="145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29160" y="1971720"/>
            <a:ext cx="2238480" cy="48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 resistor split with decreasing R &amp; Tau valu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48000" y="3614760"/>
            <a:ext cx="1695240" cy="847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3040" y="3354480"/>
            <a:ext cx="1533240" cy="8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Lump representing the short time res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585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onverting Temperature data into Thermal resistance values for R-Tau model fit. (Continued)</a:t>
            </a:r>
            <a:endParaRPr b="1" lang="en-US" sz="2800" spc="-1" strike="noStrike">
              <a:solidFill>
                <a:srgbClr val="00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8760" y="1690200"/>
            <a:ext cx="41716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oster network can be easily represented in Excel as an array formula with a combination of a few key strokes. [Control+Shift+Enter] which add the braces {} to the formu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ng a fit error function to show the difference between input data and fit data helps to visualize model fit over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93800" y="3924360"/>
            <a:ext cx="3409920" cy="812520"/>
            <a:chOff x="793800" y="3924360"/>
            <a:chExt cx="3409920" cy="812520"/>
          </a:xfrm>
        </p:grpSpPr>
        <p:sp>
          <p:nvSpPr>
            <p:cNvPr id="231" name=""/>
            <p:cNvSpPr/>
            <p:nvPr/>
          </p:nvSpPr>
          <p:spPr>
            <a:xfrm>
              <a:off x="981000" y="4048200"/>
              <a:ext cx="18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152360" y="3962520"/>
              <a:ext cx="485640" cy="171360"/>
              <a:chOff x="1152360" y="3962520"/>
              <a:chExt cx="485640" cy="171360"/>
            </a:xfrm>
          </p:grpSpPr>
          <p:sp>
            <p:nvSpPr>
              <p:cNvPr id="233" name=""/>
              <p:cNvSpPr/>
              <p:nvPr/>
            </p:nvSpPr>
            <p:spPr>
              <a:xfrm flipV="1">
                <a:off x="1316880" y="3962520"/>
                <a:ext cx="500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66920" y="3962520"/>
                <a:ext cx="568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1424160" y="3962520"/>
                <a:ext cx="57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1400" y="3962520"/>
                <a:ext cx="21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52360" y="4048200"/>
                <a:ext cx="135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88080" y="4048200"/>
                <a:ext cx="28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02640" y="4048200"/>
                <a:ext cx="135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638360" y="3962520"/>
              <a:ext cx="485280" cy="171360"/>
              <a:chOff x="1638360" y="3962520"/>
              <a:chExt cx="485280" cy="17136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1802880" y="3962520"/>
                <a:ext cx="496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52560" y="3962520"/>
                <a:ext cx="568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1909800" y="3962520"/>
                <a:ext cx="57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67040" y="3962520"/>
                <a:ext cx="21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38360" y="4048200"/>
                <a:ext cx="142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1280" y="4048200"/>
                <a:ext cx="21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8280" y="4048200"/>
                <a:ext cx="135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124000" y="3962520"/>
              <a:ext cx="485640" cy="171360"/>
              <a:chOff x="2124000" y="3962520"/>
              <a:chExt cx="485640" cy="171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288520" y="3962520"/>
                <a:ext cx="496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338200" y="3962520"/>
                <a:ext cx="568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2395440" y="3962520"/>
                <a:ext cx="500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45480" y="3962520"/>
                <a:ext cx="28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124000" y="4048200"/>
                <a:ext cx="135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59720" y="4048200"/>
                <a:ext cx="28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74280" y="4048200"/>
                <a:ext cx="135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09640" y="3962520"/>
              <a:ext cx="485640" cy="171360"/>
              <a:chOff x="2609640" y="3962520"/>
              <a:chExt cx="485640" cy="17136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2766600" y="3962520"/>
                <a:ext cx="57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23840" y="3962520"/>
                <a:ext cx="500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874240" y="3962520"/>
                <a:ext cx="57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31480" y="3962520"/>
                <a:ext cx="28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09640" y="4048200"/>
                <a:ext cx="13608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5720" y="4048200"/>
                <a:ext cx="208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59920" y="4048200"/>
                <a:ext cx="135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909960" y="4047840"/>
              <a:ext cx="293760" cy="689040"/>
              <a:chOff x="3909960" y="4047840"/>
              <a:chExt cx="293760" cy="689040"/>
            </a:xfrm>
          </p:grpSpPr>
          <p:sp>
            <p:nvSpPr>
              <p:cNvPr id="265" name=""/>
              <p:cNvSpPr/>
              <p:nvPr/>
            </p:nvSpPr>
            <p:spPr>
              <a:xfrm>
                <a:off x="4046400" y="4736520"/>
                <a:ext cx="284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96000" y="4707720"/>
                <a:ext cx="12204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952800" y="4672080"/>
                <a:ext cx="214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909960" y="4643280"/>
                <a:ext cx="29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4067640" y="4047840"/>
                <a:ext cx="360" cy="58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963360" y="4029120"/>
              <a:ext cx="49320" cy="44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581280" y="3962520"/>
              <a:ext cx="485280" cy="171360"/>
              <a:chOff x="3581280" y="3962520"/>
              <a:chExt cx="485280" cy="17136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3738240" y="3962520"/>
                <a:ext cx="568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95480" y="3962520"/>
                <a:ext cx="500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45520" y="3962520"/>
                <a:ext cx="5688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02400" y="3962520"/>
                <a:ext cx="284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81280" y="4048200"/>
                <a:ext cx="1353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16640" y="4048200"/>
                <a:ext cx="2124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930840" y="4048200"/>
                <a:ext cx="135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152360" y="4056120"/>
              <a:ext cx="485640" cy="479160"/>
              <a:chOff x="1152360" y="4056120"/>
              <a:chExt cx="485640" cy="479160"/>
            </a:xfrm>
          </p:grpSpPr>
          <p:sp>
            <p:nvSpPr>
              <p:cNvPr id="280" name=""/>
              <p:cNvSpPr/>
              <p:nvPr/>
            </p:nvSpPr>
            <p:spPr>
              <a:xfrm>
                <a:off x="1159200" y="4420800"/>
                <a:ext cx="20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43100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36692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3100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52360" y="405612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638360" y="4056120"/>
              <a:ext cx="485640" cy="479160"/>
              <a:chOff x="1638360" y="4056120"/>
              <a:chExt cx="485640" cy="479160"/>
            </a:xfrm>
          </p:grpSpPr>
          <p:sp>
            <p:nvSpPr>
              <p:cNvPr id="286" name=""/>
              <p:cNvSpPr/>
              <p:nvPr/>
            </p:nvSpPr>
            <p:spPr>
              <a:xfrm>
                <a:off x="164520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1700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5256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17000" y="4306320"/>
                <a:ext cx="36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38360" y="4056120"/>
                <a:ext cx="36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124000" y="4056120"/>
              <a:ext cx="485640" cy="479160"/>
              <a:chOff x="2124000" y="4056120"/>
              <a:chExt cx="485640" cy="479160"/>
            </a:xfrm>
          </p:grpSpPr>
          <p:sp>
            <p:nvSpPr>
              <p:cNvPr id="292" name=""/>
              <p:cNvSpPr/>
              <p:nvPr/>
            </p:nvSpPr>
            <p:spPr>
              <a:xfrm>
                <a:off x="213084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0264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3820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40264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24000" y="405612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609640" y="4056120"/>
              <a:ext cx="485640" cy="479160"/>
              <a:chOff x="2609640" y="4056120"/>
              <a:chExt cx="485640" cy="479160"/>
            </a:xfrm>
          </p:grpSpPr>
          <p:sp>
            <p:nvSpPr>
              <p:cNvPr id="298" name=""/>
              <p:cNvSpPr/>
              <p:nvPr/>
            </p:nvSpPr>
            <p:spPr>
              <a:xfrm>
                <a:off x="261648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8828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23840" y="4306320"/>
                <a:ext cx="36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88280" y="4306320"/>
                <a:ext cx="36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09640" y="405612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82720" y="4056120"/>
              <a:ext cx="485640" cy="479160"/>
              <a:chOff x="3582720" y="4056120"/>
              <a:chExt cx="485640" cy="479160"/>
            </a:xfrm>
          </p:grpSpPr>
          <p:sp>
            <p:nvSpPr>
              <p:cNvPr id="304" name=""/>
              <p:cNvSpPr/>
              <p:nvPr/>
            </p:nvSpPr>
            <p:spPr>
              <a:xfrm>
                <a:off x="358956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61360" y="442080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96920" y="4306320"/>
                <a:ext cx="36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61360" y="430632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82720" y="405612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3800" y="3954240"/>
              <a:ext cx="1206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81160" y="3924360"/>
              <a:ext cx="1299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63560" y="3924360"/>
              <a:ext cx="1285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81480"/>
              <a:ext cx="1285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60360" y="4279680"/>
              <a:ext cx="1303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63600" y="3924360"/>
              <a:ext cx="1285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7960" y="4279680"/>
              <a:ext cx="1270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9440" y="4290840"/>
              <a:ext cx="1285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6840" y="3924360"/>
              <a:ext cx="1285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82680" y="404820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0200" y="404820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82680" y="4417920"/>
              <a:ext cx="1936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00200" y="4417920"/>
              <a:ext cx="1936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362240" y="4714920"/>
                <a:ext cx="2147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u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190520" y="5829480"/>
            <a:ext cx="2286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u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* C</a:t>
            </a:r>
            <a:r>
              <a:rPr b="0" lang="en-US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4680" y="5407920"/>
            <a:ext cx="3257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{=SUM(R1:R10*(1-EXP(-</a:t>
            </a:r>
            <a:r>
              <a:rPr b="0" i="1" lang="fr-FR" sz="1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/Tau1:Tau10)))}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676760" y="1623960"/>
            <a:ext cx="4086360" cy="3521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692600" y="5157720"/>
            <a:ext cx="40338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t Error= delta between model and fi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@ a particular time val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t error function=SQRT(SUMSQ(delta1:delta2)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d to optimize the overall curve fit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7-06T20:44:03Z</dcterms:modified>
  <cp:revision>353</cp:revision>
  <dc:subject/>
  <dc:title>PowerPoint Presentation</dc:title>
</cp:coreProperties>
</file>