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F6D2-A32B-4759-9791-910BEA5D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262-D8E1-46C5-A77C-388B9D93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B1453-5578-4DBD-8770-F4F0880E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FE320-6F32-4C36-A82B-F5C3B539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42D8B-7F2A-4C96-95CD-53D00E94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1971A-FE52-43DE-88C8-5D403ED0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29BC4-D8CA-42F6-A05C-B62E8067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BC3FB-7603-419D-9217-632EE11B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9C345-428F-420F-B9D8-50E10304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23AE7-6C13-4149-BFBD-CF04B859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F064E-98C5-4CA6-9497-0ECCC9E8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8E6204-2F29-4462-90AE-1B94EB76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E0E9-600D-4AC7-AC74-91619B25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51A095-252F-44FD-9129-DCB9F45A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4A314A-7AA7-4FF4-ACED-ADBEE618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16F711-DDEC-4EEF-91D3-48950368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136C55-8C63-4541-9F7B-08AE0313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D5269A-07C9-4A45-A6BE-65D5011B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0E982C-BBB2-4521-A7D1-D81AB8F3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848E50-53C5-4C13-9C82-64C09998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5B8CBD-E0F1-4469-8563-70BFDC23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27ACE0-9688-48A5-BE39-63081F59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0D68A7-03FB-45DF-A9B6-A85DD593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5F37-805C-4340-B8DB-89F972DA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52601B-55A1-4750-AA1C-1E69CCEF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FFBE1-32D3-4CA0-8922-532F7B8F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6AE2F-C86C-4CEE-B378-F82637B2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ECF93-5F90-40DF-929A-B007ABE6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08AF2-C5AB-40DE-8891-3A8E17BB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FCFEA-CF93-469E-9FB1-3840FA03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F5676-1C2C-4E5B-89F8-BABAAA5F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CCD7D-4EB6-4B9D-8A4E-83DD239F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DDFD2-09BB-469B-A368-971527B5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46F38-F373-4B2C-AEF5-0115DBCC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CE99-E267-438A-B29D-E53FF50B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242DD-2AAA-4CF2-99BB-E7D945DC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85C28-A15F-4AEB-9CC7-4960098E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28123-D16B-4344-9ED7-29546F8C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771FD-EC7B-4E3A-955F-E5F57FE0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1F83B-A367-42E3-A57B-BE372BB3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40851-E5FC-41D8-82BC-CF0CD186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E07A2-B7FE-4FDB-AA9A-38C06385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02146-006A-47A8-8106-4B822FDB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6CD72-22C7-45A2-8F69-22EA875A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565D0-B41D-4C4E-A877-34777EDA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AF16-D034-48AF-92CE-E62EF3D4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E5B0F-ED17-4381-A87A-EE53359A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4EE7B-CB65-4E7D-AB7D-7FB65369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0A4F1-C3B7-484A-8D4C-F5718524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8E933-9287-4B04-BA2E-A34D8E7F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4FF40-2D93-41F9-9666-D7B1B8CE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27FC-11E2-443A-8479-329D943E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918F-D5F3-4273-877A-3DCC02B8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F9D0-830E-47B4-B72E-827FF500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DE50-6992-4430-9234-A6BD8E51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DA73-5A64-45AF-B014-1605F65B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505-F294-4C58-BBF5-3C3F2B66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4A1F-A322-4C29-8628-480BDC96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8552-30FB-4AF5-888C-89D28D7F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982A-1664-4728-8001-61AFFD1F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7CFE-A84B-406D-9AFB-6F5F0C09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E441-72C3-449E-9065-F0ED057F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AB55-2757-4D7D-8329-C2B636AC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E27B5-C85A-4AF0-B563-2FAC17C4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C2790-407B-4BCD-896E-F0E35BF3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569B5C-4468-4BCE-97AC-7137E9A2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438F-79C9-479A-A9B8-0C3CC820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F2BED-3453-43BF-8146-ED4461DC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62F64-3B6F-4709-B2D1-C1161AC9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FF503-7EC2-474D-8B3C-9F5A1549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39DA1D-5F56-4D95-A3A0-65560C7D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47294-E3AE-4589-B90C-D0D4D997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A862B-1ED3-4496-A673-41551436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25732-CA48-4E1C-AF15-8FE08D8A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0CC90-5076-499B-AFC5-B83012D17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3F99F-AE14-4519-B9F7-3A50C1AB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AB40B7-9E63-451D-AD22-E7CFAA73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E71-D3B8-4781-BAC9-5BFC3396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9F7E7F-3591-471C-9BB3-D8B0BDB1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997D29-9C5A-4425-8BF5-F6D778B1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C8B028-41DD-446A-BECF-E510AFAF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562724-2D03-493F-BC24-A68E1607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76E76B-37D7-4631-A8F4-611221E9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316DD-8276-4E68-BC56-388F00AF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0A65CB-2860-447A-B53A-E89058CC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7F37B7-4DD3-42F8-A8E6-075C7385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AA2A1F-5BF2-4EA4-A525-C14510CC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EF1C54-91A9-4707-AAA0-804C818D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1D6-C941-4FC4-98F9-808EC0AF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DBC8B-8A23-434E-A6EB-C73CE6D7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747B0-20C3-4076-BA0F-A994119D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3B662-8FB3-4B84-9385-D7B91E2A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20372-30E2-4F5F-9AD9-3E1401B9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331820-CD57-4564-B765-5948069C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E1F964-B2E9-4B65-9521-355F2ECF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30D876-6AD6-4251-8956-F433BA8E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E80F43-3AF4-4AD0-913E-223833D9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F7BACF-9440-42ED-A419-B5847FCF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7B934-3920-499C-B398-1793A9F9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CDCC-FFF3-4A1D-A5B6-A644A4A6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F39B44-9249-4AB8-B86A-EF31EC9E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3B0D3-13CD-4A39-BFEC-C49A6A9B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05C44-1294-49C9-9B4E-17F861EE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764CB-D0CD-4B29-A3B7-E176AFC1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CFDB6-4719-4ECA-9D64-C6E96C12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E763A-3D43-4965-B4B6-B58DB3CC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77FAF-8137-4F99-8B10-0725B9EF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CC48C-32F0-4BF9-87C0-11423113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2D222-CE8D-4884-9ADD-C3231A0C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E9235-3938-4FC8-8C2F-10C676F2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3B2-D4A0-425D-9D67-6B25FB61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CEB3E-C46B-4656-BCAE-528187EC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CC495-4B3B-4995-8331-1F83EA75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8AB2D-74E6-45F3-9483-BBB0D005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9E224-D825-4EF6-BD29-CC3300C0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DDC32-3130-424F-B701-C982E222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6C010-B019-4D35-81AB-98956DC5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3086C-2400-44E7-97FB-0578F27F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67E64-E5AA-4280-B7A5-6DFCAFBC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68001-932A-49CA-B0AC-C3B4E471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6B029-8D49-488E-ACF6-B195DC57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FDA-03C4-49DC-BEF8-1E7F931F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35F6A-26E0-4DF5-BBDE-6897B5F4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AC165-D7AC-4CD3-9C86-47007A45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FF615-9197-4635-80F9-CBFDDD7C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5BD7D-F6F6-47E9-A515-D0843A28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3EBD9-F32A-4AD4-B035-08C1E0CF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7AD36-814A-40F1-AEFE-A7C00E56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EA566-EE60-4AAA-B269-49879DDB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B743C-0AF5-4D71-B91C-20AC6D4B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DF7F8-4C8A-4E46-A18D-8E193652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AD83C-E10F-48B0-912C-C9919D00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Copyright 2012 AEi Syste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A405-CD2C-4B64-9CE1-CA94177336F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2" descr="Z:\Potential Client Send\Art\AEI_LOGO_NEW.jpg"/>
          <p:cNvPicPr/>
          <p:nvPr/>
        </p:nvPicPr>
        <p:blipFill>
          <a:blip r:embed="rId2"/>
          <a:stretch/>
        </p:blipFill>
        <p:spPr>
          <a:xfrm>
            <a:off x="152280" y="6357960"/>
            <a:ext cx="1044720" cy="3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sldNum" idx="2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1DC1-B783-464B-92EB-756BDA80149F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ftr" idx="2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Z:\Potential Client Send\Art\AEI_LOGO_NEW.jpg"/>
          <p:cNvPicPr/>
          <p:nvPr/>
        </p:nvPicPr>
        <p:blipFill>
          <a:blip r:embed="rId2"/>
          <a:stretch/>
        </p:blipFill>
        <p:spPr>
          <a:xfrm>
            <a:off x="152280" y="6357960"/>
            <a:ext cx="1044720" cy="3492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6C86-EA4C-4D6F-9CDA-57DEE1F1D17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2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E9A8-3DC3-4687-96D7-D05F3987865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C410-EBC9-4B74-94DC-A7780F756995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Z:\Potential Client Send\Art\AEI_LOGO_NEW.jpg"/>
          <p:cNvPicPr/>
          <p:nvPr/>
        </p:nvPicPr>
        <p:blipFill>
          <a:blip r:embed="rId2"/>
          <a:stretch/>
        </p:blipFill>
        <p:spPr>
          <a:xfrm>
            <a:off x="152280" y="6357960"/>
            <a:ext cx="1044720" cy="349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7749720" y="6400800"/>
            <a:ext cx="768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0712-32B8-4786-9803-568BC4B119CC}" type="datetime">
              <a:rPr b="0" lang="en-US" sz="1100" spc="-1" strike="noStrike">
                <a:solidFill>
                  <a:srgbClr val="000000"/>
                </a:solidFill>
                <a:latin typeface="Tw Cen MT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4161960" y="6400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26F2-C857-4984-B4E8-6B2E731271C6}" type="slidenum">
              <a:rPr b="0" lang="en-US" sz="11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B8C3-7530-49F1-BFCB-FBE462D36DE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Z:\Potential Client Send\Art\AEI_LOGO_NEW.jpg"/>
          <p:cNvPicPr/>
          <p:nvPr/>
        </p:nvPicPr>
        <p:blipFill>
          <a:blip r:embed="rId2"/>
          <a:stretch/>
        </p:blipFill>
        <p:spPr>
          <a:xfrm>
            <a:off x="152280" y="6357960"/>
            <a:ext cx="1044720" cy="3492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0042-60B7-457E-B1B3-F657A89A80B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Z:\Potential Client Send\Art\AEI_LOGO_NEW.jpg"/>
          <p:cNvPicPr/>
          <p:nvPr/>
        </p:nvPicPr>
        <p:blipFill>
          <a:blip r:embed="rId2"/>
          <a:stretch/>
        </p:blipFill>
        <p:spPr>
          <a:xfrm>
            <a:off x="152280" y="6357960"/>
            <a:ext cx="1044720" cy="3492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DEDD-7CCD-48B0-A82B-042C88D38D1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Z:\Potential Client Send\Art\AEI_LOGO_NEW.jpg"/>
          <p:cNvPicPr/>
          <p:nvPr/>
        </p:nvPicPr>
        <p:blipFill>
          <a:blip r:embed="rId2"/>
          <a:stretch/>
        </p:blipFill>
        <p:spPr>
          <a:xfrm>
            <a:off x="152280" y="6357960"/>
            <a:ext cx="1044720" cy="3492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C7AB-9E2B-4BFF-A152-81315D4FBCE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935C-038D-499D-81A8-64BD45B96D2A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Z:\Potential Client Send\Art\AEI_LOGO_NEW.jpg"/>
          <p:cNvPicPr/>
          <p:nvPr/>
        </p:nvPicPr>
        <p:blipFill>
          <a:blip r:embed="rId2"/>
          <a:stretch/>
        </p:blipFill>
        <p:spPr>
          <a:xfrm>
            <a:off x="152280" y="6357960"/>
            <a:ext cx="1044720" cy="3492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202F-5005-4707-8980-3F0DD82A0D2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51199 1Ohm cal no block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3746520" y="1608120"/>
            <a:ext cx="5397480" cy="2517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"/>
          <p:cNvPicPr/>
          <p:nvPr/>
        </p:nvPicPr>
        <p:blipFill>
          <a:blip r:embed="rId2"/>
          <a:stretch/>
        </p:blipFill>
        <p:spPr>
          <a:xfrm>
            <a:off x="3746520" y="4143240"/>
            <a:ext cx="5397480" cy="251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5" name=""/>
          <p:cNvGraphicFramePr/>
          <p:nvPr/>
        </p:nvGraphicFramePr>
        <p:xfrm>
          <a:off x="363600" y="1860480"/>
          <a:ext cx="3065400" cy="887400"/>
        </p:xfrm>
        <a:graphic>
          <a:graphicData uri="http://schemas.openxmlformats.org/drawingml/2006/table">
            <a:tbl>
              <a:tblPr/>
              <a:tblGrid>
                <a:gridCol w="1909800"/>
                <a:gridCol w="1155600"/>
              </a:tblGrid>
              <a:tr h="556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c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n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6" name=""/>
          <p:cNvGraphicFramePr/>
          <p:nvPr/>
        </p:nvGraphicFramePr>
        <p:xfrm>
          <a:off x="349200" y="3152880"/>
          <a:ext cx="3065400" cy="838080"/>
        </p:xfrm>
        <a:graphic>
          <a:graphicData uri="http://schemas.openxmlformats.org/drawingml/2006/table">
            <a:tbl>
              <a:tblPr/>
              <a:tblGrid>
                <a:gridCol w="1909800"/>
                <a:gridCol w="1155600"/>
              </a:tblGrid>
              <a:tr h="428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7k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ase Marg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r>
                        <a:rPr b="1" lang="el-G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9:50:38Z</dcterms:created>
  <dc:creator>Steve Sandler</dc:creator>
  <dc:description/>
  <dc:language>en-US</dc:language>
  <cp:lastModifiedBy>ON Semiconductor</cp:lastModifiedBy>
  <dcterms:modified xsi:type="dcterms:W3CDTF">2015-08-27T20:19:31Z</dcterms:modified>
  <cp:revision>2596</cp:revision>
  <dc:subject/>
  <dc:title>CMSE 2012</dc:title>
</cp:coreProperties>
</file>