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665-DAE6-472A-8DFF-F6B7E68B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AEBE-8D83-4B9B-9E80-28BDCB7A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99A-72C1-4008-B7C6-4DDAC2B3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EF21-E169-4C22-80C5-0E9F8823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3DC-92C0-49D5-A860-707BA7D4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028-0176-40AB-A90E-201AD915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DEA-49F1-4C2F-B257-E97EF586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593-CA1F-40D8-A1B1-940D8790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E0D-03D5-4616-B8B4-019B0AC2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054-58E0-4EF0-80ED-5CB2E66C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4B9-04BF-4F5F-8E5B-44C00A02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00D-3D49-4793-B222-F0728968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83D2-E738-4B47-9235-54181303B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880" y="4992840"/>
            <a:ext cx="8591760" cy="164880"/>
          </a:xfrm>
          <a:prstGeom prst="rect">
            <a:avLst/>
          </a:prstGeom>
          <a:gradFill rotWithShape="0">
            <a:gsLst>
              <a:gs pos="0">
                <a:srgbClr val="e1e1e1">
                  <a:alpha val="60392"/>
                </a:srgbClr>
              </a:gs>
              <a:gs pos="50000">
                <a:srgbClr val="777777">
                  <a:alpha val="10196"/>
                </a:srgbClr>
              </a:gs>
              <a:gs pos="100000">
                <a:srgbClr val="e1e1e1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9880" y="5351400"/>
            <a:ext cx="8591760" cy="165240"/>
          </a:xfrm>
          <a:prstGeom prst="rect">
            <a:avLst/>
          </a:prstGeom>
          <a:gradFill rotWithShape="0">
            <a:gsLst>
              <a:gs pos="0">
                <a:srgbClr val="e1e1e1">
                  <a:alpha val="60392"/>
                </a:srgbClr>
              </a:gs>
              <a:gs pos="50000">
                <a:srgbClr val="777777">
                  <a:alpha val="10196"/>
                </a:srgbClr>
              </a:gs>
              <a:gs pos="100000">
                <a:srgbClr val="e1e1e1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880" y="4614840"/>
            <a:ext cx="8591760" cy="182520"/>
          </a:xfrm>
          <a:prstGeom prst="rect">
            <a:avLst/>
          </a:prstGeom>
          <a:gradFill rotWithShape="0">
            <a:gsLst>
              <a:gs pos="0">
                <a:srgbClr val="e1e1e1">
                  <a:alpha val="60392"/>
                </a:srgbClr>
              </a:gs>
              <a:gs pos="50000">
                <a:srgbClr val="777777">
                  <a:alpha val="10196"/>
                </a:srgbClr>
              </a:gs>
              <a:gs pos="100000">
                <a:srgbClr val="e1e1e1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1628640"/>
            <a:ext cx="455292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&amp;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2282760" indent="-2286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638680"/>
            <a:ext cx="41911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aging &amp;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FN – 18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P1546/47 - Low Voltage Buck Regulator With Synchronization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3920" y="1639800"/>
            <a:ext cx="4203720" cy="23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5V to 40V Input Ran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5A Out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0% Error Amp Refer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xed Switching Frequ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92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CV1546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kH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92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CV1547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40kH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ing Junction Temperature Range: -4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9760" y="1341360"/>
            <a:ext cx="87408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NewRoman"/>
              </a:rPr>
              <a:t>This 1.5A buck regulator is ideal for application where the power dissipation of a linear regulator would not be sufficient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4303800"/>
            <a:ext cx="8591760" cy="172800"/>
          </a:xfrm>
          <a:prstGeom prst="rect">
            <a:avLst/>
          </a:prstGeom>
          <a:gradFill rotWithShape="0">
            <a:gsLst>
              <a:gs pos="0">
                <a:srgbClr val="e1e1e1">
                  <a:alpha val="60392"/>
                </a:srgbClr>
              </a:gs>
              <a:gs pos="50000">
                <a:srgbClr val="777777">
                  <a:alpha val="10196"/>
                </a:srgbClr>
              </a:gs>
              <a:gs pos="100000">
                <a:srgbClr val="e1e1e1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3920" y="4005360"/>
            <a:ext cx="420372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ontrol Archite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ycle-By-Cycle Current Limit, Short Circuit and Thermal Prot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nc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utdown Mode (IQ=1uA, Typica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ft St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Boost P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4005360"/>
            <a:ext cx="4411440" cy="178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ied Design and Fast Transient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Protection Features for Saf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upply Operation and Noise Mini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ize Power Loss During Idle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Excessive In-rush Current and Output Over-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ize the IC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886200" cy="1630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5867280"/>
            <a:ext cx="581040" cy="39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4:48:13Z</dcterms:created>
  <dc:creator>ON Semiconductor</dc:creator>
  <dc:description/>
  <dc:language>en-US</dc:language>
  <cp:lastModifiedBy>ON Semiconductor</cp:lastModifiedBy>
  <dcterms:modified xsi:type="dcterms:W3CDTF">2007-03-22T13:00:33Z</dcterms:modified>
  <cp:revision>10</cp:revision>
  <dc:subject/>
  <dc:title>Slide 1</dc:title>
</cp:coreProperties>
</file>