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F429-B595-47A6-BD52-233518A02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4B7C-C163-4EA7-9F63-2919D97C1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24B6-3DE2-4BE5-86EB-27798F492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BCEB-2A95-4D36-8639-7B48F4C3B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7DF9-AA3C-4C2F-AD32-4929A867F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E325-FB27-43A3-976C-26C5680B2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64CF-CC3A-4A38-846A-50EEE9C89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91F8-6BB9-4F96-B30B-89D85ABA6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17D3-2BFA-4077-BE4C-DD6F264FF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E996-4B81-4C74-B0CE-5A38D71A3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6F01-718C-4B68-AB15-7B3FDAA59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B0D9-02D7-4BBF-B3C8-412F66AF9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7F8BF-1389-480C-A3F1-31650F0E4B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9880" y="4992840"/>
            <a:ext cx="8591760" cy="164880"/>
          </a:xfrm>
          <a:prstGeom prst="rect">
            <a:avLst/>
          </a:prstGeom>
          <a:gradFill rotWithShape="0">
            <a:gsLst>
              <a:gs pos="0">
                <a:srgbClr val="e1e1e1">
                  <a:alpha val="60392"/>
                </a:srgbClr>
              </a:gs>
              <a:gs pos="50000">
                <a:srgbClr val="777777">
                  <a:alpha val="10196"/>
                </a:srgbClr>
              </a:gs>
              <a:gs pos="100000">
                <a:srgbClr val="e1e1e1">
                  <a:alpha val="60392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9880" y="5351400"/>
            <a:ext cx="8591760" cy="165240"/>
          </a:xfrm>
          <a:prstGeom prst="rect">
            <a:avLst/>
          </a:prstGeom>
          <a:gradFill rotWithShape="0">
            <a:gsLst>
              <a:gs pos="0">
                <a:srgbClr val="e1e1e1">
                  <a:alpha val="60392"/>
                </a:srgbClr>
              </a:gs>
              <a:gs pos="50000">
                <a:srgbClr val="777777">
                  <a:alpha val="10196"/>
                </a:srgbClr>
              </a:gs>
              <a:gs pos="100000">
                <a:srgbClr val="e1e1e1">
                  <a:alpha val="60392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9880" y="4614840"/>
            <a:ext cx="8591760" cy="182520"/>
          </a:xfrm>
          <a:prstGeom prst="rect">
            <a:avLst/>
          </a:prstGeom>
          <a:gradFill rotWithShape="0">
            <a:gsLst>
              <a:gs pos="0">
                <a:srgbClr val="e1e1e1">
                  <a:alpha val="60392"/>
                </a:srgbClr>
              </a:gs>
              <a:gs pos="50000">
                <a:srgbClr val="777777">
                  <a:alpha val="10196"/>
                </a:srgbClr>
              </a:gs>
              <a:gs pos="100000">
                <a:srgbClr val="e1e1e1">
                  <a:alpha val="60392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27640" y="1628640"/>
            <a:ext cx="4552920" cy="23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&amp; Ap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3508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nsum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3508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4" marL="2282760" indent="-22860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5638680"/>
            <a:ext cx="41911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ckaging &amp;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3508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3508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FN – 18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CP1546/47 - Low Voltage Buck Regulator With Synchronization Cap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3920" y="1639800"/>
            <a:ext cx="4203720" cy="23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3508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.5V to 40V Input Rang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3508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.5A Outpu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3508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.0% Error Amp Referen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3508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xed Switching Frequenc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1924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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CV1546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70kHz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1924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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CV1547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340kHz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3508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perating Junction Temperature Range: -40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50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3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3508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9760" y="1341360"/>
            <a:ext cx="87408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NewRoman"/>
              </a:rPr>
              <a:t>This 1.5A buck regulator is ideal for application where the power dissipation of a linear regulator would not be sufficient.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99880" y="4303800"/>
            <a:ext cx="8591760" cy="172800"/>
          </a:xfrm>
          <a:prstGeom prst="rect">
            <a:avLst/>
          </a:prstGeom>
          <a:gradFill rotWithShape="0">
            <a:gsLst>
              <a:gs pos="0">
                <a:srgbClr val="e1e1e1">
                  <a:alpha val="60392"/>
                </a:srgbClr>
              </a:gs>
              <a:gs pos="50000">
                <a:srgbClr val="777777">
                  <a:alpha val="10196"/>
                </a:srgbClr>
              </a:gs>
              <a:gs pos="100000">
                <a:srgbClr val="e1e1e1">
                  <a:alpha val="60392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3920" y="4005360"/>
            <a:ext cx="4203720" cy="165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1840" indent="-231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3508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V2</a:t>
            </a:r>
            <a:r>
              <a:rPr b="0" lang="en-US" sz="1100" spc="-1" strike="noStrike" baseline="30000">
                <a:solidFill>
                  <a:srgbClr val="000000"/>
                </a:solidFill>
                <a:latin typeface="Arial"/>
              </a:rPr>
              <a:t>TM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Control Architectu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3508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ycle-By-Cycle Current Limit, Short Circuit and Thermal Prote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3508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ync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3508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hutdown Mode (IQ=1uA, Typica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3508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oft Star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3508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Boost P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427640" y="4005360"/>
            <a:ext cx="4411440" cy="178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35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ified Design and Fast Transient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35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ed Protection Features for Safe Op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35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 Supply Operation and Noise Minim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35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imize Power Loss During Idle Con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35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ent Excessive In-rush Current and Output Over-sh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35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ize the IC Effici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35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724280" y="2362320"/>
            <a:ext cx="3886200" cy="1630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505320" y="5867280"/>
            <a:ext cx="581040" cy="393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8T14:48:13Z</dcterms:created>
  <dc:creator>ON Semiconductor</dc:creator>
  <dc:description/>
  <dc:language>en-US</dc:language>
  <cp:lastModifiedBy>ON Semiconductor</cp:lastModifiedBy>
  <dcterms:modified xsi:type="dcterms:W3CDTF">2007-03-22T13:00:33Z</dcterms:modified>
  <cp:revision>10</cp:revision>
  <dc:subject/>
  <dc:title>Slide 1</dc:title>
</cp:coreProperties>
</file>