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40B-7C32-48D8-A0EF-89998B91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8A5-6D70-4983-8DC1-3A597F3B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55A-DFDF-4E05-BB62-FD228F0B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13F-49C7-4DD6-80E1-1725AFF2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ED1-7576-4D3F-BCDE-73A6D4B3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F8A-3442-4726-8BA6-EA72C305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DFB-0AF3-40A8-92FC-BAA005B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EAE-9022-4514-8C6C-E77FB0A9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CD9-44BD-401F-8BBC-724B419B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1C3-0176-48E7-916F-3B5B225A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5C3-74BB-40F6-B34D-89090762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36F-B0E5-4E58-BB72-2CD2E17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C9DE-97AD-4117-88D6-EF435CC0E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4992840"/>
            <a:ext cx="8591760" cy="16488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9880" y="5351400"/>
            <a:ext cx="8591760" cy="16524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614840"/>
            <a:ext cx="8591760" cy="18252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1628640"/>
            <a:ext cx="455292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&amp;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282760" indent="-228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638680"/>
            <a:ext cx="4191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aging &amp;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FN – 18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1546/47 - Low Voltage Buck Regulator With Synchronization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920" y="1639800"/>
            <a:ext cx="4203720" cy="23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5V to 40V Input Ran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5A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0% Error Amp Re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xed Switching Frequ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92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CV1546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kH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92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CV1547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40kH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ing Junction Temperature Range: -4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760" y="1341360"/>
            <a:ext cx="87408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NewRoman"/>
              </a:rPr>
              <a:t>This 1.5A buck regulator is ideal for application where the power dissipation of a linear regulator would not be sufficien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4303800"/>
            <a:ext cx="8591760" cy="17280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3920" y="4005360"/>
            <a:ext cx="420372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ntrol Archite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ycle-By-Cycle Current Limit, Short Circuit and Thermal 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nc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utdown Mode (IQ=1uA, Typic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ft 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oost P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4005360"/>
            <a:ext cx="4411440" cy="17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ed Design and Fast Transient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Protection Features for Saf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upply Operation and Noise Min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e Power Loss During Idle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xcessive In-rush Current and Output Over-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 the IC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86200" cy="163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5867280"/>
            <a:ext cx="581040" cy="39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48:13Z</dcterms:created>
  <dc:creator>ON Semiconductor</dc:creator>
  <dc:description/>
  <dc:language>en-US</dc:language>
  <cp:lastModifiedBy>ON Semiconductor</cp:lastModifiedBy>
  <dcterms:modified xsi:type="dcterms:W3CDTF">2007-03-22T13:00:33Z</dcterms:modified>
  <cp:revision>10</cp:revision>
  <dc:subject/>
  <dc:title>Slide 1</dc:title>
</cp:coreProperties>
</file>